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8.png" ContentType="image/png"/>
  <Override PartName="/ppt/media/image10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</p:sldIdLst>
  <p:sldSz cx="12599988" cy="7253288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dt" idx="4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sldImg"/>
          </p:nvPr>
        </p:nvSpPr>
        <p:spPr>
          <a:xfrm>
            <a:off x="166680" y="744120"/>
            <a:ext cx="6464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ftr" idx="4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 type="sldNum" idx="45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C5AB-23AF-471C-8A4D-839C45E1F725}" type="slidenum"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66680" y="744480"/>
            <a:ext cx="6464160" cy="372276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Dia számának helye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0884A-B36E-4992-A08B-C9181B27463B}" type="slidenum"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66680" y="744480"/>
            <a:ext cx="6464160" cy="372276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Dia számának helye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6D26-FA5A-43AF-9F52-85B6ED33F134}" type="slidenum"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66680" y="744480"/>
            <a:ext cx="6464160" cy="372276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Dia számának helye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CD1C-9FAC-4216-BAB5-7A855104D758}" type="slidenum"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ADB0-2F48-4E43-8719-D232D17BC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201320" y="47365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9497-6F69-4974-AA56-348E48B5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A79ED9-1902-4E95-9C5E-4A77D4C9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39C32B-F9C2-4C54-9644-119EF01A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630000" y="357120"/>
            <a:ext cx="113410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28B8B6-D704-432B-A341-F1A4319D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5EAA03-A3E6-4F8D-B326-174EEBAF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43284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089DE7-8061-46AA-B618-6F0638B7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451E4E-E5EF-4F65-AFCB-8564CC38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1201320" y="47365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861B93-083A-4B24-8926-CB1E39BF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643284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2E6A7-1AC1-486E-830D-DD868B4DB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5336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10504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120132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465336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810504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EA03FC-9357-4521-967D-9AAA56533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4AB634-1D62-4E04-ADB9-71CCC16D0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43284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6391-5648-4A2F-ADA8-753AC0DAC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D9BCC7-91AE-4A60-97D7-EDF22D59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A8C145-E797-4A0D-B188-4D23F7D8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68080A-2CCB-44D3-862F-FD8BBD0B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AAAF14-F2D2-46AA-9D7A-16F4505E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30000" y="357120"/>
            <a:ext cx="113410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135574-AE6B-40B0-846D-5ED7DD11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111069-F323-4349-8866-B4193186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43284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4F579-28A9-49FF-8D21-4B02AAAE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93858B-0F9F-4D39-B453-337BACE2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1201320" y="47365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F29090-8487-472A-9E57-1C75287F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43284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0A8BE9-B224-4685-AE44-C3A7E9D89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336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10504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20132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5336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10504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2498-6AD9-450A-803E-2AAAD957D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5336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10504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120132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465336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810504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F12E40-D269-4087-8EB7-579A41540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3DAE6-8C75-49AF-93B5-3B8E082BF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32FC94-5470-49B9-AABC-67562162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0757C4-DE96-4D4C-B093-4FF9FA7D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7833C4-688E-4683-8142-B58D5F0A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39319D-F058-49FA-AC78-1B53B392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630000" y="357120"/>
            <a:ext cx="113410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86F66B-EA35-49BE-BCD9-B0D96248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A5DD14-F4F2-4110-80E0-76C96B8C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43284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9FBF44-422E-4521-8961-3C3F8569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69CDAF-1967-4A14-8C01-4E1D3E68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E4B43-50BA-49FF-9311-C191741D0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1201320" y="47365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4E7BF-0DDF-4019-AC2C-E839299B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643284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6BA67D-CC96-48D1-BB91-5A6AACC3D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5336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10504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120132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465336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810504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93100-E318-42CB-B451-49BEC90C7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BA364E-8417-461F-A30F-3AE8EAA2C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67CD39-649A-4098-888D-F047A755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8A31FD-F1FB-4DA4-82A8-045EF33F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8BF0EB-F07E-408E-8465-5133A4E0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AEB0D6-D754-4447-BDCA-5A381446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30000" y="357120"/>
            <a:ext cx="113410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08FFCB-CBA7-4895-AB7C-7299DA98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DE062E-9E0F-44B7-A197-833C1AF1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6074-E2F6-46CB-907C-43576C87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43284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63C071-1590-4DB4-A05C-588CC4C1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060B7B-04DF-42EF-A939-63A374BD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1201320" y="47365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2BBB54-09A6-4E87-81AF-310BD5E1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43284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709E2C-5D54-48AA-B3BD-BFBF97C5C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5336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810504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120132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465336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810504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417F2F-E987-4573-9446-0A62D15D0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462781-0E54-4BDA-B9CB-CF1320465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CEC7D8-6DCA-4114-B3CE-8EE9B684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E1ABBC-C2AD-405B-AACF-56C19987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E9C251-47D2-4981-8454-17F713AD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BC04AA-88BD-410F-B0EA-3CB8EC0D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51777-C8C6-4EC6-BE8D-90303D1F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630000" y="357120"/>
            <a:ext cx="113410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E7CCD8-8254-4B51-BC7A-B81CF3E9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19B450-ED93-4DEB-820E-BBF1AB17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43284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5E4F75-6155-42EA-A1B5-3F580A9F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16E6BC-26B0-44A8-8073-256C9378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1201320" y="47365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DAA2AB-245F-4310-88E5-1FC9CE59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643284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CECD00-A5B5-4260-909B-B1C68F58D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5336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810504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120132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465336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810504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EF1BBD-B67E-4229-893A-A7EF2375D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9951ED-D1F5-4587-9AD9-495F4D4CB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C7B723-DF3C-4710-8145-E11FE479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C531EE-E9C8-4541-B5B0-26080A3B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75D9-51DF-4F6B-8855-41B0097C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E49CD0-DDF4-436E-927B-6443D944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EA4CCD-BCF5-485B-BCD3-0F1BBE8C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630000" y="357120"/>
            <a:ext cx="113410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9A594A-B9E5-4782-8268-CDA3F880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051A1D-BAB1-448D-8CEB-3E865D2F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43284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5AA2B9-71BB-4084-8FC4-F8C11F8E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45379B-7EFC-4B2C-9A63-AB94ED5B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1201320" y="47365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226B97-3A75-429D-BD72-C0962B7B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643284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9882B8-695A-4C46-8AC3-71CFE6C84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5336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810504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120132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465336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810504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6404D2-687E-498F-9091-082920636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0D62-A08F-4048-9D48-6C322785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30000" y="357120"/>
            <a:ext cx="113410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20E70-EABA-4CC8-A0A7-57028405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69C9-61B9-4D25-AC8F-E5ED6060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BF09-6853-4528-9202-68AEF3FA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3284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EB6B4-E791-4713-8EA4-AC3668C3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936A-44D2-4DBF-BEA0-E59DEEC4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201320" y="47365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2C82-7CEA-4740-B028-E743AC97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43284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684CD-E24E-40AA-B9C8-D30C2E005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336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10504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20132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65336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10504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BD7A-439E-4DF7-ABD9-2BA3350DB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9B127-D55F-4152-9205-BA3158740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B7E4C-A0E2-4396-AD7B-45C0BF2B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54E9E-46C0-48A7-8EA1-B013E6FB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5D71D-01F3-4642-A8FC-01E8FC17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E1F48-D617-4BC0-AEAC-58AD3CBC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1DC6-88D1-4157-ADC3-C6CB6FC9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630000" y="357120"/>
            <a:ext cx="113410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7A9B0-9E41-4086-8DD8-D725537C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2D197-8C68-44B1-9610-D87CB3C8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3284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21BB5-D5C1-4D21-AA55-6E71F3B3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BFDBE-6190-4819-85A2-C25FC0EE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201320" y="47365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477A5-DC49-4BE8-A9C7-5AEC882E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43284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7165F-300B-4401-B288-1C459EDD8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336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10504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20132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465336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810504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5936C-5FCE-4891-86B2-75836AFDB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9705B-D6B5-44C2-A67B-9A11292ED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F5538-1DD3-461C-AA87-CE8D2F41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F1FAE-8156-486B-A8DC-075CE3FF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CBC7-8A33-49C0-A1B7-8848FFC9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35EBF-7560-4A7E-A4A9-439D3530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F1FAE-7922-4ACA-A948-687F2ED6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30000" y="357120"/>
            <a:ext cx="113410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A0A45-3064-41A6-99A7-ED245D80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60EFB-E223-4595-9BDF-18823444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43284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47453-F346-4887-993C-242EFDFC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C928C-6CD8-4D90-95B9-4DE05572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201320" y="47365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01E8A-3D12-4206-A447-28D4D18C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643284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CCED2-33B3-475F-A73F-6DCCB8AF6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336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10504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120132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465336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810504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A9CF4-96CA-477E-BC4B-9258AFC17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E51DA-DEC3-49E9-B3EA-1713F3D6E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3468-7C69-4F9D-8F7E-87C032EA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2862B-339E-4F4A-B0C3-453AE451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05AEA-DD4A-455A-8938-A8ED6065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069C3-638D-4DAE-BA28-58A35C55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2CF4D-6B9C-46AF-A29D-07085847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630000" y="357120"/>
            <a:ext cx="113410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68C97-B19C-456D-8FC9-49546779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BB461-C800-4CC2-8A21-AEA5C7EF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43284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FE5C1-D915-47CE-A9EB-4BBA855A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D7F3A-6EC0-41BC-9009-339C084E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1201320" y="47365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72E80-FE2F-4BAA-B18F-3904C92E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43284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A0BBA-43C6-4898-9259-7C3E60F16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30000" y="357120"/>
            <a:ext cx="113410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9381-6B08-4D44-8A6C-ACADC8FD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5336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10504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120132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465336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810504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94DCC-3B52-4371-B710-51ECACE50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44A49-AB1C-41C1-B3A7-6EAAE3759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83266-A7AE-429D-9F35-3763B584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D8D15-5C59-48D5-B323-6D66FFE2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E79A2-6DFE-46FA-BCAA-2ADDBE13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A78F8-5BE3-4C60-AF20-D5621D062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30000" y="357120"/>
            <a:ext cx="113410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C6DE1-24E5-459F-AFE0-889B0BB9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A72C0-720D-4986-8115-0938E326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43284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95FC1-E696-44BE-A698-7BF6DA13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5D256-10A2-4228-999A-2B5DD63D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95E2-6602-446A-8F0B-2599729B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201320" y="47365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2DC3C-200D-4B44-AC6F-649C8FA6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43284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F2D4A-D864-475E-8931-ED386D13A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5336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10504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20132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65336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10504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F03EB-9735-46CB-B5B0-752F84834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6E246-2D5C-4CEF-9174-612B14FD7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4FFAD-EAF2-4555-AF13-6EDB6454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26B01-65EA-4FD0-A1E1-6DDBE1A4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B8397-1BAA-4472-A756-D2677979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E8D52-EE0D-40CB-BD6C-2DAEADC6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630000" y="357120"/>
            <a:ext cx="113410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81D39-61CE-43F4-8352-CE8EE879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C3E84-186E-4B2D-BB29-2F36639A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43284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90E6-5646-4417-8A17-EBEE9590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43284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9FC42-DCC7-420F-B335-48E524E0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4F936-E1E9-42E5-ACB9-9187D234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201320" y="47365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EBA80-FC1E-4AE2-A25D-77D4B9FA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643284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5B76B-BB03-4ED5-978D-24450CFA6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5336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810504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20132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465336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810504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35C40-D5C1-4302-84D2-68398120E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F5FDA-6807-444C-A42D-D967D5E64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32C2F-D2FC-4F15-86DA-F82D8325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1132E-A6AB-4037-AE65-CA1569A7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C2DEB-938F-4559-9F9D-1E1972EA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600BF-1D82-49C4-96C8-C649F8A3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CD94-5FE2-43FE-AFC2-E7C527C3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630000" y="357120"/>
            <a:ext cx="113410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55639-4DFF-49F3-8C98-004F265D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BD9CE-E1B5-4500-B2B7-BB926ED1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43284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6083D-F6AA-4400-903A-E461DEC1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CF82D-C619-40CE-87A5-26AE5A0C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1201320" y="47365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072A6-8F00-4A28-8138-958DA70C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43284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84C62-223C-4FC0-AB27-156BD4233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5336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10504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120132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65336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810504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CF04B-24DA-47E1-B89F-C84469083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9FCACA-DA75-459C-B840-088C3BC7F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32FD2C-4665-42D0-B91A-A349D472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45428-DEFD-4CAE-BB32-82A39409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314280" y="241200"/>
            <a:ext cx="11984040" cy="261324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91960" y="1776240"/>
            <a:ext cx="12022200" cy="1406520"/>
            <a:chOff x="291960" y="1776240"/>
            <a:chExt cx="12022200" cy="1406520"/>
          </a:xfrm>
        </p:grpSpPr>
        <p:sp>
          <p:nvSpPr>
            <p:cNvPr id="2" name="Freeform 14"/>
            <p:cNvSpPr/>
            <p:nvPr/>
          </p:nvSpPr>
          <p:spPr>
            <a:xfrm>
              <a:off x="8334720" y="1929600"/>
              <a:ext cx="3963960" cy="75528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3610080" y="1793880"/>
              <a:ext cx="7641360" cy="8992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3898440" y="1806840"/>
              <a:ext cx="7535880" cy="81900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7731000" y="1792440"/>
              <a:ext cx="4559040" cy="68904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91960" y="1776240"/>
              <a:ext cx="12022200" cy="140652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7116480" y="6611760"/>
            <a:ext cx="5218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266400" y="6611760"/>
            <a:ext cx="5218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500440" y="6611760"/>
            <a:ext cx="1600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7D16-90B7-41FE-B83E-40E9ED4345B6}" type="slidenum">
              <a:rPr b="0" lang="hu-HU" sz="12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 fontScale="93000"/>
          </a:bodyPr>
          <a:p>
            <a:pPr marL="315720" indent="-31572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1" marL="664200" indent="-31536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2" marL="98604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3" marL="131832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4" marL="168732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5" marL="1687320" indent="-262800">
              <a:spcBef>
                <a:spcPts val="751"/>
              </a:spcBef>
              <a:buClr>
                <a:srgbClr val="000000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6" marL="1687320" indent="-262800">
              <a:spcBef>
                <a:spcPts val="751"/>
              </a:spcBef>
              <a:buClr>
                <a:srgbClr val="000000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ounded Rectangle 13"/>
          <p:cNvSpPr/>
          <p:nvPr/>
        </p:nvSpPr>
        <p:spPr>
          <a:xfrm>
            <a:off x="314280" y="241200"/>
            <a:ext cx="11984040" cy="501192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Freeform 14"/>
          <p:cNvSpPr/>
          <p:nvPr/>
        </p:nvSpPr>
        <p:spPr>
          <a:xfrm>
            <a:off x="8334360" y="4446720"/>
            <a:ext cx="3963960" cy="7556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520" bIns="5652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Freeform 18"/>
          <p:cNvSpPr/>
          <p:nvPr/>
        </p:nvSpPr>
        <p:spPr>
          <a:xfrm>
            <a:off x="3610080" y="4311720"/>
            <a:ext cx="7640640" cy="89856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520" bIns="5652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Freeform 22"/>
          <p:cNvSpPr/>
          <p:nvPr/>
        </p:nvSpPr>
        <p:spPr>
          <a:xfrm>
            <a:off x="3898800" y="4324320"/>
            <a:ext cx="7534440" cy="81936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113400" rIns="113400" tIns="56520" bIns="5652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Freeform 26"/>
          <p:cNvSpPr/>
          <p:nvPr/>
        </p:nvSpPr>
        <p:spPr>
          <a:xfrm>
            <a:off x="7731000" y="4309920"/>
            <a:ext cx="4557960" cy="68904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113400" rIns="113400" tIns="56520" bIns="5652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Freeform 10"/>
          <p:cNvSpPr/>
          <p:nvPr/>
        </p:nvSpPr>
        <p:spPr>
          <a:xfrm>
            <a:off x="291960" y="4294080"/>
            <a:ext cx="12022200" cy="140652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520" bIns="5652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 fontScale="93000"/>
          </a:bodyPr>
          <a:p>
            <a:pPr marL="315720" indent="-31572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1" marL="664200" indent="-31536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2" marL="98604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3" marL="131832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4" marL="168732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5" marL="1687320" indent="-262800">
              <a:spcBef>
                <a:spcPts val="751"/>
              </a:spcBef>
              <a:buClr>
                <a:srgbClr val="000000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6" marL="1687320" indent="-262800">
              <a:spcBef>
                <a:spcPts val="751"/>
              </a:spcBef>
              <a:buClr>
                <a:srgbClr val="000000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8"/>
          </p:nvPr>
        </p:nvSpPr>
        <p:spPr>
          <a:xfrm>
            <a:off x="7116480" y="6611760"/>
            <a:ext cx="5218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29"/>
          </p:nvPr>
        </p:nvSpPr>
        <p:spPr>
          <a:xfrm>
            <a:off x="266400" y="6611760"/>
            <a:ext cx="5218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0"/>
          </p:nvPr>
        </p:nvSpPr>
        <p:spPr>
          <a:xfrm>
            <a:off x="5500440" y="6611760"/>
            <a:ext cx="1600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2418-BF33-45B7-8E38-25E71F21955D}" type="slidenum">
              <a:rPr b="0" lang="hu-HU" sz="12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ounded Rectangle 11"/>
          <p:cNvSpPr/>
          <p:nvPr/>
        </p:nvSpPr>
        <p:spPr>
          <a:xfrm>
            <a:off x="314280" y="241200"/>
            <a:ext cx="11984040" cy="15098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9" name="Group 5"/>
          <p:cNvGrpSpPr/>
          <p:nvPr/>
        </p:nvGrpSpPr>
        <p:grpSpPr>
          <a:xfrm>
            <a:off x="291960" y="755640"/>
            <a:ext cx="12022200" cy="1406520"/>
            <a:chOff x="291960" y="755640"/>
            <a:chExt cx="12022200" cy="1406520"/>
          </a:xfrm>
        </p:grpSpPr>
        <p:sp>
          <p:nvSpPr>
            <p:cNvPr id="480" name="Freeform 14"/>
            <p:cNvSpPr/>
            <p:nvPr/>
          </p:nvSpPr>
          <p:spPr>
            <a:xfrm>
              <a:off x="8334360" y="909360"/>
              <a:ext cx="3963960" cy="7542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1" name="Freeform 18"/>
            <p:cNvSpPr/>
            <p:nvPr/>
          </p:nvSpPr>
          <p:spPr>
            <a:xfrm>
              <a:off x="3609720" y="772920"/>
              <a:ext cx="7640640" cy="9000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2" name="Freeform 22"/>
            <p:cNvSpPr/>
            <p:nvPr/>
          </p:nvSpPr>
          <p:spPr>
            <a:xfrm>
              <a:off x="3898800" y="785520"/>
              <a:ext cx="7535880" cy="81900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" name="Freeform 26"/>
            <p:cNvSpPr/>
            <p:nvPr/>
          </p:nvSpPr>
          <p:spPr>
            <a:xfrm>
              <a:off x="7731000" y="771480"/>
              <a:ext cx="4559400" cy="68904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" name="Freeform 10"/>
            <p:cNvSpPr/>
            <p:nvPr/>
          </p:nvSpPr>
          <p:spPr>
            <a:xfrm>
              <a:off x="291960" y="755640"/>
              <a:ext cx="12022200" cy="140652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 fontScale="93000"/>
          </a:bodyPr>
          <a:p>
            <a:pPr marL="315720" indent="-31572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1" marL="664200" indent="-31536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2" marL="98604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3" marL="131832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4" marL="168732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5" marL="1687320" indent="-262800">
              <a:spcBef>
                <a:spcPts val="751"/>
              </a:spcBef>
              <a:buClr>
                <a:srgbClr val="000000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6" marL="1687320" indent="-262800">
              <a:spcBef>
                <a:spcPts val="751"/>
              </a:spcBef>
              <a:buClr>
                <a:srgbClr val="000000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1"/>
          </p:nvPr>
        </p:nvSpPr>
        <p:spPr>
          <a:xfrm>
            <a:off x="7116480" y="6611760"/>
            <a:ext cx="5218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2"/>
          </p:nvPr>
        </p:nvSpPr>
        <p:spPr>
          <a:xfrm>
            <a:off x="266400" y="6611760"/>
            <a:ext cx="5218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3"/>
          </p:nvPr>
        </p:nvSpPr>
        <p:spPr>
          <a:xfrm>
            <a:off x="5500440" y="6611760"/>
            <a:ext cx="1600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90F2-8BFB-401A-A1DD-4F0173AF47C1}" type="slidenum">
              <a:rPr b="0" lang="hu-HU" sz="12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ounded Rectangle 14"/>
          <p:cNvSpPr/>
          <p:nvPr/>
        </p:nvSpPr>
        <p:spPr>
          <a:xfrm>
            <a:off x="314280" y="241200"/>
            <a:ext cx="11984040" cy="15098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7" name="Group 23"/>
          <p:cNvGrpSpPr/>
          <p:nvPr/>
        </p:nvGrpSpPr>
        <p:grpSpPr>
          <a:xfrm>
            <a:off x="291960" y="755640"/>
            <a:ext cx="12022200" cy="1407960"/>
            <a:chOff x="291960" y="755640"/>
            <a:chExt cx="12022200" cy="1407960"/>
          </a:xfrm>
        </p:grpSpPr>
        <p:sp>
          <p:nvSpPr>
            <p:cNvPr id="528" name="Freeform 14"/>
            <p:cNvSpPr/>
            <p:nvPr/>
          </p:nvSpPr>
          <p:spPr>
            <a:xfrm>
              <a:off x="8345520" y="909360"/>
              <a:ext cx="3968640" cy="7556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" name="Freeform 18"/>
            <p:cNvSpPr/>
            <p:nvPr/>
          </p:nvSpPr>
          <p:spPr>
            <a:xfrm>
              <a:off x="3614400" y="772920"/>
              <a:ext cx="7650360" cy="9000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" name="Freeform 22"/>
            <p:cNvSpPr/>
            <p:nvPr/>
          </p:nvSpPr>
          <p:spPr>
            <a:xfrm>
              <a:off x="3903480" y="785520"/>
              <a:ext cx="7545600" cy="82080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" name="Freeform 26"/>
            <p:cNvSpPr/>
            <p:nvPr/>
          </p:nvSpPr>
          <p:spPr>
            <a:xfrm>
              <a:off x="7740720" y="771480"/>
              <a:ext cx="4564080" cy="6904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2" name="Freeform 28"/>
            <p:cNvSpPr/>
            <p:nvPr/>
          </p:nvSpPr>
          <p:spPr>
            <a:xfrm>
              <a:off x="291960" y="755640"/>
              <a:ext cx="12022200" cy="14079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 fontScale="93000"/>
          </a:bodyPr>
          <a:p>
            <a:pPr marL="315720" indent="-31572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1" marL="664200" indent="-31536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2" marL="98604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3" marL="131832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4" marL="168732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5" marL="1687320" indent="-262800">
              <a:spcBef>
                <a:spcPts val="751"/>
              </a:spcBef>
              <a:buClr>
                <a:srgbClr val="000000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6" marL="1687320" indent="-262800">
              <a:spcBef>
                <a:spcPts val="751"/>
              </a:spcBef>
              <a:buClr>
                <a:srgbClr val="000000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34"/>
          </p:nvPr>
        </p:nvSpPr>
        <p:spPr>
          <a:xfrm>
            <a:off x="7116480" y="6611760"/>
            <a:ext cx="5218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35"/>
          </p:nvPr>
        </p:nvSpPr>
        <p:spPr>
          <a:xfrm>
            <a:off x="266400" y="6611760"/>
            <a:ext cx="5218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36"/>
          </p:nvPr>
        </p:nvSpPr>
        <p:spPr>
          <a:xfrm>
            <a:off x="5500440" y="6611760"/>
            <a:ext cx="1600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E63C-D3C7-4F4E-8C37-C4B63AC4707E}" type="slidenum">
              <a:rPr b="0" lang="hu-HU" sz="12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ounded Rectangle 14"/>
          <p:cNvSpPr/>
          <p:nvPr/>
        </p:nvSpPr>
        <p:spPr>
          <a:xfrm>
            <a:off x="314280" y="241200"/>
            <a:ext cx="11984040" cy="63849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5" name="Group 8"/>
          <p:cNvGrpSpPr/>
          <p:nvPr/>
        </p:nvGrpSpPr>
        <p:grpSpPr>
          <a:xfrm>
            <a:off x="291960" y="5664240"/>
            <a:ext cx="12022200" cy="1407960"/>
            <a:chOff x="291960" y="5664240"/>
            <a:chExt cx="12022200" cy="1407960"/>
          </a:xfrm>
        </p:grpSpPr>
        <p:sp>
          <p:nvSpPr>
            <p:cNvPr id="576" name="Freeform 14"/>
            <p:cNvSpPr/>
            <p:nvPr/>
          </p:nvSpPr>
          <p:spPr>
            <a:xfrm>
              <a:off x="8345520" y="5817960"/>
              <a:ext cx="3968640" cy="7556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7" name="Freeform 18"/>
            <p:cNvSpPr/>
            <p:nvPr/>
          </p:nvSpPr>
          <p:spPr>
            <a:xfrm>
              <a:off x="3614400" y="5681520"/>
              <a:ext cx="7650360" cy="9000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Freeform 22"/>
            <p:cNvSpPr/>
            <p:nvPr/>
          </p:nvSpPr>
          <p:spPr>
            <a:xfrm>
              <a:off x="3903480" y="5694120"/>
              <a:ext cx="7545600" cy="82080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Freeform 26"/>
            <p:cNvSpPr/>
            <p:nvPr/>
          </p:nvSpPr>
          <p:spPr>
            <a:xfrm>
              <a:off x="7740720" y="5680080"/>
              <a:ext cx="4564080" cy="6904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0" name="Freeform 10"/>
            <p:cNvSpPr/>
            <p:nvPr/>
          </p:nvSpPr>
          <p:spPr>
            <a:xfrm>
              <a:off x="291960" y="5664240"/>
              <a:ext cx="12022200" cy="14079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 fontScale="93000"/>
          </a:bodyPr>
          <a:p>
            <a:pPr marL="315720" indent="-31572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1" marL="664200" indent="-31536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2" marL="98604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3" marL="131832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4" marL="168732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5" marL="1687320" indent="-262800">
              <a:spcBef>
                <a:spcPts val="751"/>
              </a:spcBef>
              <a:buClr>
                <a:srgbClr val="000000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6" marL="1687320" indent="-262800">
              <a:spcBef>
                <a:spcPts val="751"/>
              </a:spcBef>
              <a:buClr>
                <a:srgbClr val="000000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37"/>
          </p:nvPr>
        </p:nvSpPr>
        <p:spPr>
          <a:xfrm>
            <a:off x="7116480" y="6611760"/>
            <a:ext cx="5218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38"/>
          </p:nvPr>
        </p:nvSpPr>
        <p:spPr>
          <a:xfrm>
            <a:off x="266400" y="6611760"/>
            <a:ext cx="5218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39"/>
          </p:nvPr>
        </p:nvSpPr>
        <p:spPr>
          <a:xfrm>
            <a:off x="5500440" y="6611760"/>
            <a:ext cx="1600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E8BF-7AB9-4D8D-B7C0-4525BF915776}" type="slidenum">
              <a:rPr b="0" lang="hu-HU" sz="12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ounded Rectangle 20"/>
          <p:cNvSpPr/>
          <p:nvPr/>
        </p:nvSpPr>
        <p:spPr>
          <a:xfrm>
            <a:off x="314280" y="241200"/>
            <a:ext cx="11984040" cy="15098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3" name="Group 14"/>
          <p:cNvGrpSpPr/>
          <p:nvPr/>
        </p:nvGrpSpPr>
        <p:grpSpPr>
          <a:xfrm>
            <a:off x="291960" y="755640"/>
            <a:ext cx="12022200" cy="1407960"/>
            <a:chOff x="291960" y="755640"/>
            <a:chExt cx="12022200" cy="1407960"/>
          </a:xfrm>
        </p:grpSpPr>
        <p:sp>
          <p:nvSpPr>
            <p:cNvPr id="624" name="Freeform 14"/>
            <p:cNvSpPr/>
            <p:nvPr/>
          </p:nvSpPr>
          <p:spPr>
            <a:xfrm>
              <a:off x="8345520" y="909360"/>
              <a:ext cx="3968640" cy="7556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5" name="Freeform 18"/>
            <p:cNvSpPr/>
            <p:nvPr/>
          </p:nvSpPr>
          <p:spPr>
            <a:xfrm>
              <a:off x="3614400" y="772920"/>
              <a:ext cx="7650360" cy="9000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6" name="Freeform 22"/>
            <p:cNvSpPr/>
            <p:nvPr/>
          </p:nvSpPr>
          <p:spPr>
            <a:xfrm>
              <a:off x="3903480" y="785520"/>
              <a:ext cx="7545600" cy="82080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7" name="Freeform 26"/>
            <p:cNvSpPr/>
            <p:nvPr/>
          </p:nvSpPr>
          <p:spPr>
            <a:xfrm>
              <a:off x="7740720" y="771480"/>
              <a:ext cx="4564080" cy="6904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8" name="Freeform 19"/>
            <p:cNvSpPr/>
            <p:nvPr/>
          </p:nvSpPr>
          <p:spPr>
            <a:xfrm>
              <a:off x="291960" y="755640"/>
              <a:ext cx="12022200" cy="14079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 fontScale="93000"/>
          </a:bodyPr>
          <a:p>
            <a:pPr marL="315720" indent="-31572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1" marL="664200" indent="-31536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2" marL="98604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3" marL="131832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4" marL="168732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5" marL="1687320" indent="-262800">
              <a:spcBef>
                <a:spcPts val="751"/>
              </a:spcBef>
              <a:buClr>
                <a:srgbClr val="000000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6" marL="1687320" indent="-262800">
              <a:spcBef>
                <a:spcPts val="751"/>
              </a:spcBef>
              <a:buClr>
                <a:srgbClr val="000000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40"/>
          </p:nvPr>
        </p:nvSpPr>
        <p:spPr>
          <a:xfrm>
            <a:off x="7116480" y="6611760"/>
            <a:ext cx="5218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ftr" idx="41"/>
          </p:nvPr>
        </p:nvSpPr>
        <p:spPr>
          <a:xfrm>
            <a:off x="266400" y="6611760"/>
            <a:ext cx="5218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 type="sldNum" idx="42"/>
          </p:nvPr>
        </p:nvSpPr>
        <p:spPr>
          <a:xfrm>
            <a:off x="5500440" y="6611760"/>
            <a:ext cx="1600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CE5F-2130-48FA-ABF9-204C12F97BE0}" type="slidenum">
              <a:rPr b="0" lang="hu-HU" sz="12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3"/>
          <p:cNvSpPr/>
          <p:nvPr/>
        </p:nvSpPr>
        <p:spPr>
          <a:xfrm>
            <a:off x="314280" y="241200"/>
            <a:ext cx="11984040" cy="261324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" name="Group 15"/>
          <p:cNvGrpSpPr/>
          <p:nvPr/>
        </p:nvGrpSpPr>
        <p:grpSpPr>
          <a:xfrm>
            <a:off x="291960" y="1776240"/>
            <a:ext cx="12022200" cy="1406520"/>
            <a:chOff x="291960" y="1776240"/>
            <a:chExt cx="12022200" cy="1406520"/>
          </a:xfrm>
        </p:grpSpPr>
        <p:sp>
          <p:nvSpPr>
            <p:cNvPr id="50" name="Freeform 14"/>
            <p:cNvSpPr/>
            <p:nvPr/>
          </p:nvSpPr>
          <p:spPr>
            <a:xfrm>
              <a:off x="8334360" y="1929960"/>
              <a:ext cx="3963960" cy="7542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3609720" y="1793520"/>
              <a:ext cx="7640640" cy="9000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3898800" y="1806120"/>
              <a:ext cx="7535880" cy="81900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7731000" y="1792080"/>
              <a:ext cx="4559400" cy="68904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91960" y="1776240"/>
              <a:ext cx="12022200" cy="140652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7116480" y="6611760"/>
            <a:ext cx="5218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266400" y="6611760"/>
            <a:ext cx="5218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5500440" y="6611760"/>
            <a:ext cx="1600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87E9-32F7-4B53-B26F-4E958E5E46B8}" type="slidenum">
              <a:rPr b="0" lang="hu-HU" sz="12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 fontScale="93000"/>
          </a:bodyPr>
          <a:p>
            <a:pPr marL="315720" indent="-31572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1" marL="664200" indent="-31536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2" marL="98604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3" marL="131832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4" marL="168732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5" marL="1687320" indent="-262800">
              <a:spcBef>
                <a:spcPts val="751"/>
              </a:spcBef>
              <a:buClr>
                <a:srgbClr val="000000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6" marL="1687320" indent="-262800">
              <a:spcBef>
                <a:spcPts val="751"/>
              </a:spcBef>
              <a:buClr>
                <a:srgbClr val="000000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5"/>
          <p:cNvSpPr/>
          <p:nvPr/>
        </p:nvSpPr>
        <p:spPr>
          <a:xfrm>
            <a:off x="314280" y="241200"/>
            <a:ext cx="11984040" cy="63849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7" name="Group 9"/>
          <p:cNvGrpSpPr/>
          <p:nvPr/>
        </p:nvGrpSpPr>
        <p:grpSpPr>
          <a:xfrm>
            <a:off x="291960" y="5664240"/>
            <a:ext cx="12022200" cy="1407960"/>
            <a:chOff x="291960" y="5664240"/>
            <a:chExt cx="12022200" cy="1407960"/>
          </a:xfrm>
        </p:grpSpPr>
        <p:sp>
          <p:nvSpPr>
            <p:cNvPr id="98" name="Freeform 14"/>
            <p:cNvSpPr/>
            <p:nvPr/>
          </p:nvSpPr>
          <p:spPr>
            <a:xfrm>
              <a:off x="8344800" y="5817600"/>
              <a:ext cx="3969360" cy="7560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Freeform 18"/>
            <p:cNvSpPr/>
            <p:nvPr/>
          </p:nvSpPr>
          <p:spPr>
            <a:xfrm>
              <a:off x="3614400" y="5681880"/>
              <a:ext cx="7651080" cy="9000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3903120" y="5694840"/>
              <a:ext cx="7545600" cy="819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Freeform 26"/>
            <p:cNvSpPr/>
            <p:nvPr/>
          </p:nvSpPr>
          <p:spPr>
            <a:xfrm>
              <a:off x="7740720" y="5680440"/>
              <a:ext cx="4564800" cy="6897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Freeform 10"/>
            <p:cNvSpPr/>
            <p:nvPr/>
          </p:nvSpPr>
          <p:spPr>
            <a:xfrm>
              <a:off x="291960" y="5664240"/>
              <a:ext cx="12022200" cy="14079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 fontScale="93000"/>
          </a:bodyPr>
          <a:p>
            <a:pPr marL="315720" indent="-31572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1" marL="664200" indent="-31536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2" marL="98604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3" marL="131832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4" marL="168732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5" marL="1687320" indent="-262800">
              <a:spcBef>
                <a:spcPts val="751"/>
              </a:spcBef>
              <a:buClr>
                <a:srgbClr val="000000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6" marL="1687320" indent="-262800">
              <a:spcBef>
                <a:spcPts val="751"/>
              </a:spcBef>
              <a:buClr>
                <a:srgbClr val="000000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7116480" y="6611760"/>
            <a:ext cx="5218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266400" y="6611760"/>
            <a:ext cx="5218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5500440" y="6611760"/>
            <a:ext cx="1600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F8BD-D8CF-46ED-8A13-978F6590A9F8}" type="slidenum">
              <a:rPr b="0" lang="hu-HU" sz="12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ounded Rectangle 13"/>
          <p:cNvSpPr/>
          <p:nvPr/>
        </p:nvSpPr>
        <p:spPr>
          <a:xfrm>
            <a:off x="314280" y="241200"/>
            <a:ext cx="11984040" cy="501192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Freeform 14"/>
          <p:cNvSpPr/>
          <p:nvPr/>
        </p:nvSpPr>
        <p:spPr>
          <a:xfrm>
            <a:off x="8334360" y="4446720"/>
            <a:ext cx="3963960" cy="7556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520" bIns="5652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Freeform 18"/>
          <p:cNvSpPr/>
          <p:nvPr/>
        </p:nvSpPr>
        <p:spPr>
          <a:xfrm>
            <a:off x="3610080" y="4311720"/>
            <a:ext cx="7640640" cy="89856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520" bIns="5652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Freeform 22"/>
          <p:cNvSpPr/>
          <p:nvPr/>
        </p:nvSpPr>
        <p:spPr>
          <a:xfrm>
            <a:off x="3898800" y="4324320"/>
            <a:ext cx="7534440" cy="81936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113400" rIns="113400" tIns="56520" bIns="5652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Freeform 26"/>
          <p:cNvSpPr/>
          <p:nvPr/>
        </p:nvSpPr>
        <p:spPr>
          <a:xfrm>
            <a:off x="7731000" y="4309920"/>
            <a:ext cx="4557960" cy="68904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113400" rIns="113400" tIns="56520" bIns="5652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10"/>
          <p:cNvSpPr/>
          <p:nvPr/>
        </p:nvSpPr>
        <p:spPr>
          <a:xfrm>
            <a:off x="291960" y="4294080"/>
            <a:ext cx="12022200" cy="140652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520" bIns="5652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 fontScale="93000"/>
          </a:bodyPr>
          <a:p>
            <a:pPr marL="315720" indent="-31572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1" marL="664200" indent="-31536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2" marL="98604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3" marL="131832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4" marL="168732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5" marL="1687320" indent="-262800">
              <a:spcBef>
                <a:spcPts val="751"/>
              </a:spcBef>
              <a:buClr>
                <a:srgbClr val="000000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6" marL="1687320" indent="-262800">
              <a:spcBef>
                <a:spcPts val="751"/>
              </a:spcBef>
              <a:buClr>
                <a:srgbClr val="000000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7116480" y="6611760"/>
            <a:ext cx="5218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66400" y="6611760"/>
            <a:ext cx="5218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5500440" y="6611760"/>
            <a:ext cx="1600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E5AE-0CF1-47E0-9BFF-052DBBC82063}" type="slidenum">
              <a:rPr b="0" lang="hu-HU" sz="12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1"/>
          <p:cNvSpPr/>
          <p:nvPr/>
        </p:nvSpPr>
        <p:spPr>
          <a:xfrm>
            <a:off x="314280" y="241200"/>
            <a:ext cx="11984040" cy="15098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" name="Group 5"/>
          <p:cNvGrpSpPr/>
          <p:nvPr/>
        </p:nvGrpSpPr>
        <p:grpSpPr>
          <a:xfrm>
            <a:off x="291960" y="755640"/>
            <a:ext cx="12022200" cy="1406520"/>
            <a:chOff x="291960" y="755640"/>
            <a:chExt cx="12022200" cy="1406520"/>
          </a:xfrm>
        </p:grpSpPr>
        <p:sp>
          <p:nvSpPr>
            <p:cNvPr id="193" name="Freeform 14"/>
            <p:cNvSpPr/>
            <p:nvPr/>
          </p:nvSpPr>
          <p:spPr>
            <a:xfrm>
              <a:off x="8334720" y="909000"/>
              <a:ext cx="3963960" cy="75528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3610080" y="773280"/>
              <a:ext cx="7641360" cy="8992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3898440" y="786240"/>
              <a:ext cx="7535880" cy="81900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7731000" y="771840"/>
              <a:ext cx="4559040" cy="68904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Freeform 10"/>
            <p:cNvSpPr/>
            <p:nvPr/>
          </p:nvSpPr>
          <p:spPr>
            <a:xfrm>
              <a:off x="291960" y="755640"/>
              <a:ext cx="12022200" cy="140652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 fontScale="93000"/>
          </a:bodyPr>
          <a:p>
            <a:pPr marL="315720" indent="-31572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1" marL="664200" indent="-31536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2" marL="98604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3" marL="131832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4" marL="168732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5" marL="1687320" indent="-262800">
              <a:spcBef>
                <a:spcPts val="751"/>
              </a:spcBef>
              <a:buClr>
                <a:srgbClr val="000000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6" marL="1687320" indent="-262800">
              <a:spcBef>
                <a:spcPts val="751"/>
              </a:spcBef>
              <a:buClr>
                <a:srgbClr val="000000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7116480" y="6611760"/>
            <a:ext cx="5218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266400" y="6611760"/>
            <a:ext cx="5218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5500440" y="6611760"/>
            <a:ext cx="1600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1F35-0FA0-4F8A-8363-9C1F5674B141}" type="slidenum">
              <a:rPr b="0" lang="hu-HU" sz="12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314280" y="241200"/>
            <a:ext cx="11984040" cy="15098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0" name="Group 23"/>
          <p:cNvGrpSpPr/>
          <p:nvPr/>
        </p:nvGrpSpPr>
        <p:grpSpPr>
          <a:xfrm>
            <a:off x="291960" y="755640"/>
            <a:ext cx="12022200" cy="1407960"/>
            <a:chOff x="291960" y="755640"/>
            <a:chExt cx="12022200" cy="1407960"/>
          </a:xfrm>
        </p:grpSpPr>
        <p:sp>
          <p:nvSpPr>
            <p:cNvPr id="241" name="Freeform 14"/>
            <p:cNvSpPr/>
            <p:nvPr/>
          </p:nvSpPr>
          <p:spPr>
            <a:xfrm>
              <a:off x="8344800" y="909000"/>
              <a:ext cx="3969360" cy="7560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3614400" y="773280"/>
              <a:ext cx="7651080" cy="9000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3903120" y="786240"/>
              <a:ext cx="7545600" cy="819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7740720" y="771840"/>
              <a:ext cx="4564800" cy="6897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Freeform 28"/>
            <p:cNvSpPr/>
            <p:nvPr/>
          </p:nvSpPr>
          <p:spPr>
            <a:xfrm>
              <a:off x="291960" y="755640"/>
              <a:ext cx="12022200" cy="14079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 fontScale="93000"/>
          </a:bodyPr>
          <a:p>
            <a:pPr marL="315720" indent="-31572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1" marL="664200" indent="-31536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2" marL="98604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3" marL="131832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4" marL="168732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5" marL="1687320" indent="-262800">
              <a:spcBef>
                <a:spcPts val="751"/>
              </a:spcBef>
              <a:buClr>
                <a:srgbClr val="000000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6" marL="1687320" indent="-262800">
              <a:spcBef>
                <a:spcPts val="751"/>
              </a:spcBef>
              <a:buClr>
                <a:srgbClr val="000000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7116480" y="6611760"/>
            <a:ext cx="5218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266400" y="6611760"/>
            <a:ext cx="5218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5500440" y="6611760"/>
            <a:ext cx="1600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EAF4-764C-4664-BAFE-3EBB009F87E4}" type="slidenum">
              <a:rPr b="0" lang="hu-HU" sz="12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314280" y="241200"/>
            <a:ext cx="11984040" cy="63849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8" name="Group 8"/>
          <p:cNvGrpSpPr/>
          <p:nvPr/>
        </p:nvGrpSpPr>
        <p:grpSpPr>
          <a:xfrm>
            <a:off x="291960" y="5664240"/>
            <a:ext cx="12022200" cy="1407960"/>
            <a:chOff x="291960" y="5664240"/>
            <a:chExt cx="12022200" cy="1407960"/>
          </a:xfrm>
        </p:grpSpPr>
        <p:sp>
          <p:nvSpPr>
            <p:cNvPr id="289" name="Freeform 14"/>
            <p:cNvSpPr/>
            <p:nvPr/>
          </p:nvSpPr>
          <p:spPr>
            <a:xfrm>
              <a:off x="8344800" y="5817600"/>
              <a:ext cx="3969360" cy="7560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3614400" y="5681880"/>
              <a:ext cx="7651080" cy="9000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3903120" y="5694840"/>
              <a:ext cx="7545600" cy="819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7740720" y="5680440"/>
              <a:ext cx="4564800" cy="6897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10"/>
            <p:cNvSpPr/>
            <p:nvPr/>
          </p:nvSpPr>
          <p:spPr>
            <a:xfrm>
              <a:off x="291960" y="5664240"/>
              <a:ext cx="12022200" cy="14079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 fontScale="93000"/>
          </a:bodyPr>
          <a:p>
            <a:pPr marL="315720" indent="-31572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1" marL="664200" indent="-31536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2" marL="98604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3" marL="131832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4" marL="168732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5" marL="1687320" indent="-262800">
              <a:spcBef>
                <a:spcPts val="751"/>
              </a:spcBef>
              <a:buClr>
                <a:srgbClr val="000000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6" marL="1687320" indent="-262800">
              <a:spcBef>
                <a:spcPts val="751"/>
              </a:spcBef>
              <a:buClr>
                <a:srgbClr val="000000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7116480" y="6611760"/>
            <a:ext cx="5218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266400" y="6611760"/>
            <a:ext cx="5218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5500440" y="6611760"/>
            <a:ext cx="1600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0F60-6046-4119-9E69-DA235873A39C}" type="slidenum">
              <a:rPr b="0" lang="hu-HU" sz="12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20"/>
          <p:cNvSpPr/>
          <p:nvPr/>
        </p:nvSpPr>
        <p:spPr>
          <a:xfrm>
            <a:off x="314280" y="241200"/>
            <a:ext cx="11984040" cy="15098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6" name="Group 14"/>
          <p:cNvGrpSpPr/>
          <p:nvPr/>
        </p:nvGrpSpPr>
        <p:grpSpPr>
          <a:xfrm>
            <a:off x="291960" y="755640"/>
            <a:ext cx="12022200" cy="1407960"/>
            <a:chOff x="291960" y="755640"/>
            <a:chExt cx="12022200" cy="1407960"/>
          </a:xfrm>
        </p:grpSpPr>
        <p:sp>
          <p:nvSpPr>
            <p:cNvPr id="337" name="Freeform 14"/>
            <p:cNvSpPr/>
            <p:nvPr/>
          </p:nvSpPr>
          <p:spPr>
            <a:xfrm>
              <a:off x="8344800" y="909000"/>
              <a:ext cx="3969360" cy="7560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3614400" y="773280"/>
              <a:ext cx="7651080" cy="9000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3903120" y="786240"/>
              <a:ext cx="7545600" cy="819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7740720" y="771840"/>
              <a:ext cx="4564800" cy="6897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" name="Freeform 19"/>
            <p:cNvSpPr/>
            <p:nvPr/>
          </p:nvSpPr>
          <p:spPr>
            <a:xfrm>
              <a:off x="291960" y="755640"/>
              <a:ext cx="12022200" cy="14079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 fontScale="93000"/>
          </a:bodyPr>
          <a:p>
            <a:pPr marL="315720" indent="-31572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1" marL="664200" indent="-31536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2" marL="98604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3" marL="131832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4" marL="168732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5" marL="1687320" indent="-262800">
              <a:spcBef>
                <a:spcPts val="751"/>
              </a:spcBef>
              <a:buClr>
                <a:srgbClr val="000000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6" marL="1687320" indent="-262800">
              <a:spcBef>
                <a:spcPts val="751"/>
              </a:spcBef>
              <a:buClr>
                <a:srgbClr val="000000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7116480" y="6611760"/>
            <a:ext cx="5218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266400" y="6611760"/>
            <a:ext cx="5218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5500440" y="6611760"/>
            <a:ext cx="1600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1C0B-2BAB-497D-B853-A8B64B1F8677}" type="slidenum">
              <a:rPr b="0" lang="hu-HU" sz="12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ounded Rectangle 15"/>
          <p:cNvSpPr/>
          <p:nvPr/>
        </p:nvSpPr>
        <p:spPr>
          <a:xfrm>
            <a:off x="314280" y="241200"/>
            <a:ext cx="11984040" cy="63849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4" name="Group 9"/>
          <p:cNvGrpSpPr/>
          <p:nvPr/>
        </p:nvGrpSpPr>
        <p:grpSpPr>
          <a:xfrm>
            <a:off x="291960" y="5664240"/>
            <a:ext cx="12022200" cy="1407960"/>
            <a:chOff x="291960" y="5664240"/>
            <a:chExt cx="12022200" cy="1407960"/>
          </a:xfrm>
        </p:grpSpPr>
        <p:sp>
          <p:nvSpPr>
            <p:cNvPr id="385" name="Freeform 14"/>
            <p:cNvSpPr/>
            <p:nvPr/>
          </p:nvSpPr>
          <p:spPr>
            <a:xfrm>
              <a:off x="8345520" y="5817960"/>
              <a:ext cx="3968640" cy="7556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3614400" y="5681520"/>
              <a:ext cx="7650360" cy="9000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" name="Freeform 22"/>
            <p:cNvSpPr/>
            <p:nvPr/>
          </p:nvSpPr>
          <p:spPr>
            <a:xfrm>
              <a:off x="3903480" y="5694120"/>
              <a:ext cx="7545600" cy="82080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" name="Freeform 26"/>
            <p:cNvSpPr/>
            <p:nvPr/>
          </p:nvSpPr>
          <p:spPr>
            <a:xfrm>
              <a:off x="7740720" y="5680080"/>
              <a:ext cx="4564080" cy="6904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Freeform 10"/>
            <p:cNvSpPr/>
            <p:nvPr/>
          </p:nvSpPr>
          <p:spPr>
            <a:xfrm>
              <a:off x="291960" y="5664240"/>
              <a:ext cx="12022200" cy="14079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 fontScale="93000"/>
          </a:bodyPr>
          <a:p>
            <a:pPr marL="315720" indent="-31572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1" marL="664200" indent="-31536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2" marL="98604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3" marL="131832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4" marL="168732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5" marL="1687320" indent="-262800">
              <a:spcBef>
                <a:spcPts val="751"/>
              </a:spcBef>
              <a:buClr>
                <a:srgbClr val="000000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6" marL="1687320" indent="-262800">
              <a:spcBef>
                <a:spcPts val="751"/>
              </a:spcBef>
              <a:buClr>
                <a:srgbClr val="000000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7116480" y="6611760"/>
            <a:ext cx="5218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266400" y="6611760"/>
            <a:ext cx="5218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5500440" y="6611760"/>
            <a:ext cx="1600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55BD-E4C7-4D8E-94A5-6B47451745BA}" type="slidenum">
              <a:rPr b="0" lang="hu-HU" sz="12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30240" y="781200"/>
            <a:ext cx="10709280" cy="15127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hu-HU" sz="4800" spc="-1" strike="noStrike">
                <a:solidFill>
                  <a:srgbClr val="ffff00"/>
                </a:solidFill>
                <a:latin typeface="Book Antiqua"/>
              </a:rPr>
              <a:t>    </a:t>
            </a:r>
            <a:r>
              <a:rPr b="1" lang="hu-HU" sz="4800" spc="-1" strike="noStrike">
                <a:solidFill>
                  <a:srgbClr val="ffff00"/>
                </a:solidFill>
                <a:latin typeface="Book Antiqua"/>
              </a:rPr>
              <a:t>KÖZMEGHALLGATÁS</a:t>
            </a:r>
            <a:br>
              <a:rPr sz="4000"/>
            </a:br>
            <a:r>
              <a:rPr b="1" lang="hu-HU" sz="4000" spc="-1" strike="noStrike">
                <a:solidFill>
                  <a:srgbClr val="ffff00"/>
                </a:solidFill>
                <a:latin typeface="Book Antiqua"/>
              </a:rPr>
              <a:t>2018. február 17.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396720" y="2548080"/>
            <a:ext cx="11736720" cy="425448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hu-HU" sz="2800" spc="-1" strike="noStrike">
                <a:solidFill>
                  <a:srgbClr val="052e65"/>
                </a:solidFill>
                <a:latin typeface="Book Antiqua"/>
              </a:rPr>
              <a:t>   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hu-HU" sz="2800" spc="-1" strike="noStrike">
                <a:solidFill>
                  <a:srgbClr val="052e65"/>
                </a:solidFill>
                <a:latin typeface="Book Antiqua"/>
              </a:rPr>
              <a:t>      </a:t>
            </a:r>
            <a:r>
              <a:rPr b="1" lang="hu-HU" sz="2800" spc="-1" strike="noStrike">
                <a:solidFill>
                  <a:srgbClr val="052e65"/>
                </a:solidFill>
                <a:latin typeface="Book Antiqua"/>
              </a:rPr>
              <a:t>Beszámoló a Község 2017. évi gazdálkodásáról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hu-HU" sz="2800" spc="-1" strike="noStrike">
                <a:solidFill>
                  <a:srgbClr val="052e65"/>
                </a:solidFill>
                <a:latin typeface="Book Antiqua"/>
              </a:rPr>
              <a:t>      </a:t>
            </a:r>
            <a:r>
              <a:rPr b="1" lang="hu-HU" sz="2800" spc="-1" strike="noStrike">
                <a:solidFill>
                  <a:srgbClr val="052e65"/>
                </a:solidFill>
                <a:latin typeface="Book Antiqua"/>
              </a:rPr>
              <a:t>2018.évi költségvetés tervezett bevételei és kiadásai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hu-HU" sz="2800" spc="-1" strike="noStrike">
                <a:solidFill>
                  <a:srgbClr val="052e65"/>
                </a:solidFill>
                <a:latin typeface="Book Antiqua"/>
              </a:rPr>
              <a:t>      </a:t>
            </a:r>
            <a:r>
              <a:rPr b="1" lang="hu-HU" sz="2800" spc="-1" strike="noStrike">
                <a:solidFill>
                  <a:srgbClr val="052e65"/>
                </a:solidFill>
                <a:latin typeface="Book Antiqua"/>
              </a:rPr>
              <a:t>Tervezett fejlesztések, beruházások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679" name="Picture 6" descr="Balatonmariafurdo címer"/>
          <p:cNvPicPr/>
          <p:nvPr/>
        </p:nvPicPr>
        <p:blipFill>
          <a:blip r:embed="rId1"/>
          <a:stretch/>
        </p:blipFill>
        <p:spPr>
          <a:xfrm>
            <a:off x="1092240" y="603360"/>
            <a:ext cx="1868400" cy="1655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07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Book Antiqua"/>
              </a:rPr>
              <a:t>Balatonmáriafürdő Önkormányzatának</a:t>
            </a:r>
            <a:br>
              <a:rPr sz="3600"/>
            </a:br>
            <a:r>
              <a:rPr b="1" lang="hu-HU" sz="3600" spc="-1" strike="noStrike">
                <a:solidFill>
                  <a:srgbClr val="ffff00"/>
                </a:solidFill>
                <a:latin typeface="Book Antiqua"/>
              </a:rPr>
              <a:t>2018.évi  Állami támogatása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720" name="Kép 4" descr=""/>
          <p:cNvPicPr/>
          <p:nvPr/>
        </p:nvPicPr>
        <p:blipFill>
          <a:blip r:embed="rId1"/>
          <a:stretch/>
        </p:blipFill>
        <p:spPr>
          <a:xfrm>
            <a:off x="9325080" y="4059360"/>
            <a:ext cx="2890800" cy="30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1" name=""/>
          <p:cNvGraphicFramePr/>
          <p:nvPr/>
        </p:nvGraphicFramePr>
        <p:xfrm>
          <a:off x="828720" y="2548080"/>
          <a:ext cx="10296360" cy="4670280"/>
        </p:xfrm>
        <a:graphic>
          <a:graphicData uri="http://schemas.openxmlformats.org/drawingml/2006/table">
            <a:tbl>
              <a:tblPr/>
              <a:tblGrid>
                <a:gridCol w="8237520"/>
                <a:gridCol w="2058840"/>
              </a:tblGrid>
              <a:tr h="406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Arial"/>
                          <a:ea typeface="Arial"/>
                        </a:rPr>
                        <a:t>Zöldterület gazdálkodással kapcsolatos feladatokr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Arial"/>
                          <a:ea typeface="Arial"/>
                        </a:rPr>
                        <a:t>647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Arial"/>
                          <a:ea typeface="Arial"/>
                        </a:rPr>
                        <a:t>Köztemető fenntartással kapcsolatos feladatokr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Arial"/>
                          <a:ea typeface="Arial"/>
                        </a:rPr>
                        <a:t>Közvilágítás fenntartásának támogatás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Arial"/>
                          <a:ea typeface="Arial"/>
                        </a:rPr>
                        <a:t>15 04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Arial"/>
                          <a:ea typeface="Arial"/>
                        </a:rPr>
                        <a:t>Közutak fenntartásának támogatás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Arial"/>
                          <a:ea typeface="Arial"/>
                        </a:rPr>
                        <a:t>870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Arial"/>
                          <a:ea typeface="Arial"/>
                        </a:rPr>
                        <a:t>Egyéb kötelező önkormányzati felada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Arial"/>
                          <a:ea typeface="Arial"/>
                        </a:rPr>
                        <a:t>410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Arial"/>
                          <a:ea typeface="Arial"/>
                        </a:rPr>
                        <a:t>Üdülőhelyi feladat támogatás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Arial"/>
                          <a:ea typeface="Arial"/>
                        </a:rPr>
                        <a:t>17 77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Arial"/>
                          <a:ea typeface="Arial"/>
                        </a:rPr>
                        <a:t>Önkormányzatok szociális  feladatainak támogatás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Arial"/>
                          <a:ea typeface="Arial"/>
                        </a:rPr>
                        <a:t>588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Arial"/>
                          <a:ea typeface="Arial"/>
                        </a:rPr>
                        <a:t>Könyvtári, közművelődési ellátás támogatás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Arial"/>
                          <a:ea typeface="Arial"/>
                        </a:rPr>
                        <a:t>18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600" spc="-1" strike="noStrike">
                          <a:solidFill>
                            <a:srgbClr val="016296"/>
                          </a:solidFill>
                          <a:latin typeface="Arial"/>
                          <a:ea typeface="Arial"/>
                        </a:rPr>
                        <a:t>Állami támogatás rendszeres minden évben összese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600" spc="-1" strike="noStrike">
                          <a:solidFill>
                            <a:srgbClr val="016296"/>
                          </a:solidFill>
                          <a:latin typeface="Arial"/>
                          <a:ea typeface="Arial"/>
                        </a:rPr>
                        <a:t>59 88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2" name="Téglalap 4"/>
          <p:cNvSpPr/>
          <p:nvPr/>
        </p:nvSpPr>
        <p:spPr>
          <a:xfrm>
            <a:off x="10493640" y="1990800"/>
            <a:ext cx="1739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6436b"/>
                </a:solidFill>
                <a:latin typeface="Book Antiqua"/>
                <a:ea typeface="Times New Roman"/>
              </a:rPr>
              <a:t>Adatok: e Ft-ba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07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Book Antiqua"/>
              </a:rPr>
              <a:t>Balatonmáriafürdő Önkormányzatának </a:t>
            </a:r>
            <a:br>
              <a:rPr sz="3600"/>
            </a:br>
            <a:r>
              <a:rPr b="1" lang="hu-HU" sz="3600" spc="-1" strike="noStrike">
                <a:solidFill>
                  <a:srgbClr val="ffff00"/>
                </a:solidFill>
                <a:latin typeface="Book Antiqua"/>
              </a:rPr>
              <a:t>2018.évi tervezett bevételei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724" name="Kép 4" descr=""/>
          <p:cNvPicPr/>
          <p:nvPr/>
        </p:nvPicPr>
        <p:blipFill>
          <a:blip r:embed="rId1"/>
          <a:stretch/>
        </p:blipFill>
        <p:spPr>
          <a:xfrm>
            <a:off x="9325080" y="4059360"/>
            <a:ext cx="2890800" cy="30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5" name=""/>
          <p:cNvGraphicFramePr/>
          <p:nvPr/>
        </p:nvGraphicFramePr>
        <p:xfrm>
          <a:off x="1620720" y="2548080"/>
          <a:ext cx="9150480" cy="4309920"/>
        </p:xfrm>
        <a:graphic>
          <a:graphicData uri="http://schemas.openxmlformats.org/drawingml/2006/table">
            <a:tbl>
              <a:tblPr/>
              <a:tblGrid>
                <a:gridCol w="6650280"/>
                <a:gridCol w="2500200"/>
              </a:tblGrid>
              <a:tr h="431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Arial"/>
                          <a:ea typeface="Arial"/>
                        </a:rPr>
                        <a:t>Strand bevétel Áfa nélkü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Arial"/>
                          <a:ea typeface="Arial"/>
                        </a:rPr>
                        <a:t>14 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Arial"/>
                          <a:ea typeface="Arial"/>
                        </a:rPr>
                        <a:t>Strandok közterület használati díjak Áfa nélkü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Arial"/>
                          <a:ea typeface="Arial"/>
                        </a:rPr>
                        <a:t>476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Arial"/>
                          <a:ea typeface="Arial"/>
                        </a:rPr>
                        <a:t>Közterület használati díj Áfa nélkü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Arial"/>
                          <a:ea typeface="Arial"/>
                        </a:rPr>
                        <a:t>15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Arial"/>
                          <a:ea typeface="Arial"/>
                        </a:rPr>
                        <a:t>Csónakkikötő bérleti díj Áfa nélkü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Arial"/>
                          <a:ea typeface="Arial"/>
                        </a:rPr>
                        <a:t>76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Arial"/>
                          <a:ea typeface="Arial"/>
                        </a:rPr>
                        <a:t>Műfüves focipálya bérleti díj Áfa nélkü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Arial"/>
                          <a:ea typeface="Arial"/>
                        </a:rPr>
                        <a:t>25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Arial"/>
                          <a:ea typeface="Arial"/>
                        </a:rPr>
                        <a:t>Továbbszámlázott bevételek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Arial"/>
                          <a:ea typeface="Arial"/>
                        </a:rPr>
                        <a:t>4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Arial"/>
                          <a:ea typeface="Arial"/>
                        </a:rPr>
                        <a:t>Kamatbevéte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Arial"/>
                          <a:ea typeface="Arial"/>
                        </a:rPr>
                        <a:t>14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800" spc="-1" strike="noStrike">
                          <a:solidFill>
                            <a:srgbClr val="016296"/>
                          </a:solidFill>
                          <a:latin typeface="Arial"/>
                          <a:ea typeface="Arial"/>
                        </a:rPr>
                        <a:t>Működési bevétel összes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800" spc="-1" strike="noStrike">
                          <a:solidFill>
                            <a:srgbClr val="016296"/>
                          </a:solidFill>
                          <a:latin typeface="Arial"/>
                          <a:ea typeface="Arial"/>
                        </a:rPr>
                        <a:t>26 6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6" name="Téglalap 4"/>
          <p:cNvSpPr/>
          <p:nvPr/>
        </p:nvSpPr>
        <p:spPr>
          <a:xfrm>
            <a:off x="10493640" y="1990800"/>
            <a:ext cx="1739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6436b"/>
                </a:solidFill>
                <a:latin typeface="Book Antiqua"/>
                <a:ea typeface="Times New Roman"/>
              </a:rPr>
              <a:t>Adatok: e Ft-ba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07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Book Antiqua"/>
              </a:rPr>
              <a:t>Balatonmáriafürdő Önkormányzatának </a:t>
            </a:r>
            <a:br>
              <a:rPr sz="3600"/>
            </a:br>
            <a:r>
              <a:rPr b="1" lang="hu-HU" sz="3600" spc="-1" strike="noStrike">
                <a:solidFill>
                  <a:srgbClr val="ffff00"/>
                </a:solidFill>
                <a:latin typeface="Book Antiqua"/>
              </a:rPr>
              <a:t>2018.évi tervezett működési kiadásai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728" name="Kép 4" descr=""/>
          <p:cNvPicPr/>
          <p:nvPr/>
        </p:nvPicPr>
        <p:blipFill>
          <a:blip r:embed="rId1"/>
          <a:stretch/>
        </p:blipFill>
        <p:spPr>
          <a:xfrm>
            <a:off x="9325080" y="4059360"/>
            <a:ext cx="2890800" cy="30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9" name=""/>
          <p:cNvGraphicFramePr/>
          <p:nvPr/>
        </p:nvGraphicFramePr>
        <p:xfrm>
          <a:off x="833400" y="2428920"/>
          <a:ext cx="9942480" cy="4513320"/>
        </p:xfrm>
        <a:graphic>
          <a:graphicData uri="http://schemas.openxmlformats.org/drawingml/2006/table">
            <a:tbl>
              <a:tblPr/>
              <a:tblGrid>
                <a:gridCol w="7716960"/>
                <a:gridCol w="2225520"/>
              </a:tblGrid>
              <a:tr h="498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</a:rPr>
                        <a:t>Személyi juttatás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</a:rPr>
                        <a:t>71 00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</a:rPr>
                        <a:t>Munkaadót terhelő járulék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</a:rPr>
                        <a:t>14 43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</a:rPr>
                        <a:t>Dologi kiadások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</a:rPr>
                        <a:t>151 90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</a:rPr>
                        <a:t>Támogatás értékű működési kiadá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</a:rPr>
                        <a:t>31 03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</a:rPr>
                        <a:t>Működési célú pénz átadás ÁHT-n kívülr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</a:rPr>
                        <a:t>10 41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</a:rPr>
                        <a:t>Szociális ellátások, segélyek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</a:rPr>
                        <a:t>349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c00000"/>
                          </a:solidFill>
                          <a:latin typeface="Book Antiqua"/>
                        </a:rPr>
                        <a:t>Működési célú tartalék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c00000"/>
                          </a:solidFill>
                          <a:latin typeface="Book Antiqua"/>
                        </a:rPr>
                        <a:t>53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</a:rPr>
                        <a:t>Előző évi állami támogatás visszafizeté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</a:rPr>
                        <a:t>6 11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3200" spc="-1" strike="noStrike">
                          <a:solidFill>
                            <a:srgbClr val="016296"/>
                          </a:solidFill>
                          <a:latin typeface="Book Antiqua"/>
                        </a:rPr>
                        <a:t>Működési kiadás mindösszes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3200" spc="-1" strike="noStrike">
                          <a:solidFill>
                            <a:srgbClr val="016296"/>
                          </a:solidFill>
                          <a:latin typeface="Book Antiqua"/>
                        </a:rPr>
                        <a:t>293 69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0" name="Téglalap 4"/>
          <p:cNvSpPr/>
          <p:nvPr/>
        </p:nvSpPr>
        <p:spPr>
          <a:xfrm>
            <a:off x="10493640" y="1990800"/>
            <a:ext cx="1739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6436b"/>
                </a:solidFill>
                <a:latin typeface="Book Antiqua"/>
                <a:ea typeface="Times New Roman"/>
              </a:rPr>
              <a:t>Adatok: e Ft-ba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07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Book Antiqua"/>
              </a:rPr>
              <a:t>Balatonmáriafürdő Önkormányzatának </a:t>
            </a:r>
            <a:br>
              <a:rPr sz="3600"/>
            </a:br>
            <a:r>
              <a:rPr b="1" lang="hu-HU" sz="3600" spc="-1" strike="noStrike">
                <a:solidFill>
                  <a:srgbClr val="ffff00"/>
                </a:solidFill>
                <a:latin typeface="Book Antiqua"/>
              </a:rPr>
              <a:t>2018.évi tervezett felhalmozási kiadásai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732" name="Kép 4" descr=""/>
          <p:cNvPicPr/>
          <p:nvPr/>
        </p:nvPicPr>
        <p:blipFill>
          <a:blip r:embed="rId1"/>
          <a:stretch/>
        </p:blipFill>
        <p:spPr>
          <a:xfrm>
            <a:off x="9325080" y="4059360"/>
            <a:ext cx="2890800" cy="30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3" name=""/>
          <p:cNvGraphicFramePr/>
          <p:nvPr/>
        </p:nvGraphicFramePr>
        <p:xfrm>
          <a:off x="833400" y="2428920"/>
          <a:ext cx="9942480" cy="3549600"/>
        </p:xfrm>
        <a:graphic>
          <a:graphicData uri="http://schemas.openxmlformats.org/drawingml/2006/table">
            <a:tbl>
              <a:tblPr/>
              <a:tblGrid>
                <a:gridCol w="7716960"/>
                <a:gridCol w="2225520"/>
              </a:tblGrid>
              <a:tr h="498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</a:rPr>
                        <a:t>Felújítá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</a:rPr>
                        <a:t>72 03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</a:rPr>
                        <a:t>Beruházá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</a:rPr>
                        <a:t>300 59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</a:rPr>
                        <a:t>Támogatás értékű felhalmozási kiadá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</a:rPr>
                        <a:t>Felhalmozási célú pénz átadás ÁHT-n kívülr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</a:rPr>
                        <a:t>Kincstárjegy vásárlá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c00000"/>
                          </a:solidFill>
                          <a:latin typeface="Book Antiqua"/>
                        </a:rPr>
                        <a:t>Felhalmozási célú tartalék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c00000"/>
                          </a:solidFill>
                          <a:latin typeface="Book Antiqua"/>
                        </a:rPr>
                        <a:t>23579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3200" spc="-1" strike="noStrike">
                          <a:solidFill>
                            <a:srgbClr val="016296"/>
                          </a:solidFill>
                          <a:latin typeface="Book Antiqua"/>
                        </a:rPr>
                        <a:t>Felhalmozási kiadás mindösszes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3200" spc="-1" strike="noStrike">
                          <a:solidFill>
                            <a:srgbClr val="016296"/>
                          </a:solidFill>
                          <a:latin typeface="Book Antiqua"/>
                        </a:rPr>
                        <a:t>60841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4" name="Téglalap 4"/>
          <p:cNvSpPr/>
          <p:nvPr/>
        </p:nvSpPr>
        <p:spPr>
          <a:xfrm>
            <a:off x="10493640" y="1990800"/>
            <a:ext cx="1739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6436b"/>
                </a:solidFill>
                <a:latin typeface="Book Antiqua"/>
                <a:ea typeface="Times New Roman"/>
              </a:rPr>
              <a:t>Adatok: e Ft-ba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828720" y="2279520"/>
            <a:ext cx="10709280" cy="309744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b">
            <a:noAutofit/>
          </a:bodyPr>
          <a:p>
            <a:pPr marL="512640" indent="0" algn="ctr">
              <a:lnSpc>
                <a:spcPct val="10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hu-HU" sz="4300" spc="-1" strike="noStrike">
                <a:solidFill>
                  <a:srgbClr val="ffff00"/>
                </a:solidFill>
                <a:latin typeface="Book Antiqua"/>
              </a:rPr>
              <a:t> </a:t>
            </a:r>
            <a:r>
              <a:rPr b="1" lang="hu-HU" sz="6500" spc="-1" strike="noStrike">
                <a:solidFill>
                  <a:srgbClr val="ffff00"/>
                </a:solidFill>
                <a:latin typeface="Book Antiqua"/>
              </a:rPr>
              <a:t>2018.évre tervezett fejlesztések, beruházások Balatonmáriafürdőn </a:t>
            </a:r>
            <a:endParaRPr b="0" lang="en-US" sz="65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736" name="Picture 6" descr="Balatonmariafurdo címer"/>
          <p:cNvPicPr/>
          <p:nvPr/>
        </p:nvPicPr>
        <p:blipFill>
          <a:blip r:embed="rId1"/>
          <a:stretch/>
        </p:blipFill>
        <p:spPr>
          <a:xfrm>
            <a:off x="1092240" y="603360"/>
            <a:ext cx="1868400" cy="1655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07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Book Antiqua"/>
              </a:rPr>
              <a:t>Tervezett fejlesztések Balatonmáriafürdőn 2018</a:t>
            </a:r>
            <a:br>
              <a:rPr sz="3600"/>
            </a:br>
            <a:r>
              <a:rPr b="1" lang="hu-HU" sz="3600" spc="-1" strike="noStrike">
                <a:solidFill>
                  <a:srgbClr val="ffff00"/>
                </a:solidFill>
                <a:latin typeface="Book Antiqua"/>
              </a:rPr>
              <a:t>Nyertes pályázati döntés alapján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38" name="Téglalap 4"/>
          <p:cNvSpPr/>
          <p:nvPr/>
        </p:nvSpPr>
        <p:spPr>
          <a:xfrm>
            <a:off x="8471160" y="1755720"/>
            <a:ext cx="1739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6436b"/>
                </a:solidFill>
                <a:latin typeface="Book Antiqua"/>
                <a:ea typeface="Times New Roman"/>
              </a:rPr>
              <a:t>Adatok: e Ft-ba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9" name="Kép 4" descr=""/>
          <p:cNvPicPr/>
          <p:nvPr/>
        </p:nvPicPr>
        <p:blipFill>
          <a:blip r:embed="rId1"/>
          <a:stretch/>
        </p:blipFill>
        <p:spPr>
          <a:xfrm>
            <a:off x="9325080" y="4059360"/>
            <a:ext cx="2890800" cy="30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0" name=""/>
          <p:cNvGraphicFramePr/>
          <p:nvPr/>
        </p:nvGraphicFramePr>
        <p:xfrm>
          <a:off x="468360" y="2619360"/>
          <a:ext cx="11747520" cy="3632040"/>
        </p:xfrm>
        <a:graphic>
          <a:graphicData uri="http://schemas.openxmlformats.org/drawingml/2006/table">
            <a:tbl>
              <a:tblPr/>
              <a:tblGrid>
                <a:gridCol w="3240000"/>
                <a:gridCol w="6697800"/>
                <a:gridCol w="1809720"/>
              </a:tblGrid>
              <a:tr h="503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31f43"/>
                          </a:solidFill>
                          <a:latin typeface="Book Antiqua"/>
                        </a:rPr>
                        <a:t>Fejlesztés helyszí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31f43"/>
                          </a:solidFill>
                          <a:latin typeface="Book Antiqua"/>
                        </a:rPr>
                        <a:t>Rövid leír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31f43"/>
                          </a:solidFill>
                          <a:latin typeface="Book Antiqua"/>
                        </a:rPr>
                        <a:t>Nettó költsé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0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200" spc="-1" strike="noStrike">
                          <a:solidFill>
                            <a:srgbClr val="002060"/>
                          </a:solidFill>
                          <a:latin typeface="Book Antiqua"/>
                        </a:rPr>
                        <a:t>Védőnői rendelő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lvl="1" marL="852480" indent="-28584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000" spc="-1" strike="noStrike">
                          <a:solidFill>
                            <a:srgbClr val="002060"/>
                          </a:solidFill>
                          <a:latin typeface="Book Antiqua"/>
                        </a:rPr>
                        <a:t>TOP-4.1.1-15-SO1-2016-00008 számú pályázatra benyújtott projekt, az orvosi szolgálati lakás helyén védőnői rendelő kialakítása, épület felújítással, eszközbeszerzéss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lvl="1" marL="566640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000" spc="-1" strike="noStrike">
                          <a:solidFill>
                            <a:srgbClr val="002060"/>
                          </a:solidFill>
                          <a:latin typeface="Book Antiqua"/>
                        </a:rPr>
                        <a:t>59 8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9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200" spc="-1" strike="noStrike">
                          <a:solidFill>
                            <a:srgbClr val="002060"/>
                          </a:solidFill>
                          <a:latin typeface="Book Antiqua"/>
                        </a:rPr>
                        <a:t>Belvízvédelmi rendszere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lvl="1" marL="852480" indent="-28584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000" spc="-1" strike="noStrike">
                          <a:solidFill>
                            <a:srgbClr val="002060"/>
                          </a:solidFill>
                          <a:latin typeface="Book Antiqua"/>
                        </a:rPr>
                        <a:t>TOP-2.1.3-15-SO1-2016-00009 számú pályázatra benyújtott projekt belvíz és csapadékvíz elvezetési problémák megoldásá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lvl="1" marL="566640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000" spc="-1" strike="noStrike">
                          <a:solidFill>
                            <a:srgbClr val="002060"/>
                          </a:solidFill>
                          <a:latin typeface="Book Antiqua"/>
                        </a:rPr>
                        <a:t>312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9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200" spc="-1" strike="noStrike">
                          <a:solidFill>
                            <a:srgbClr val="002060"/>
                          </a:solidFill>
                          <a:latin typeface="Book Antiqua"/>
                        </a:rPr>
                        <a:t>Kerékpárút fejleszté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lvl="1" marL="852480" indent="-28584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000" spc="-1" strike="noStrike">
                          <a:solidFill>
                            <a:srgbClr val="002060"/>
                          </a:solidFill>
                          <a:latin typeface="Book Antiqua"/>
                        </a:rPr>
                        <a:t>Balatonmáriafürdő - Mesztegnyő kerékpárút kialakítása TOP pályáz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lvl="1" marL="566640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000" spc="-1" strike="noStrike">
                          <a:solidFill>
                            <a:srgbClr val="002060"/>
                          </a:solidFill>
                          <a:latin typeface="Book Antiqua"/>
                        </a:rPr>
                        <a:t>8 2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07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Book Antiqua"/>
              </a:rPr>
              <a:t>Tervezett fejlesztések Balatonmáriafürdőn 2018</a:t>
            </a:r>
            <a:br>
              <a:rPr sz="3600"/>
            </a:br>
            <a:r>
              <a:rPr b="1" lang="hu-HU" sz="3600" spc="-1" strike="noStrike">
                <a:solidFill>
                  <a:srgbClr val="ffff00"/>
                </a:solidFill>
                <a:latin typeface="Book Antiqua"/>
              </a:rPr>
              <a:t>Nyertes pályázati döntés alapján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2" name="Téglalap 4"/>
          <p:cNvSpPr/>
          <p:nvPr/>
        </p:nvSpPr>
        <p:spPr>
          <a:xfrm>
            <a:off x="8471160" y="1755720"/>
            <a:ext cx="1739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6436b"/>
                </a:solidFill>
                <a:latin typeface="Book Antiqua"/>
                <a:ea typeface="Times New Roman"/>
              </a:rPr>
              <a:t>Adatok: e Ft-ba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3" name="Kép 4" descr=""/>
          <p:cNvPicPr/>
          <p:nvPr/>
        </p:nvPicPr>
        <p:blipFill>
          <a:blip r:embed="rId1"/>
          <a:stretch/>
        </p:blipFill>
        <p:spPr>
          <a:xfrm>
            <a:off x="9325080" y="4059360"/>
            <a:ext cx="2890800" cy="30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4" name=""/>
          <p:cNvGraphicFramePr/>
          <p:nvPr/>
        </p:nvGraphicFramePr>
        <p:xfrm>
          <a:off x="396720" y="2619360"/>
          <a:ext cx="11806560" cy="3063960"/>
        </p:xfrm>
        <a:graphic>
          <a:graphicData uri="http://schemas.openxmlformats.org/drawingml/2006/table">
            <a:tbl>
              <a:tblPr/>
              <a:tblGrid>
                <a:gridCol w="3299040"/>
                <a:gridCol w="6697440"/>
                <a:gridCol w="1810080"/>
              </a:tblGrid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31f43"/>
                          </a:solidFill>
                          <a:latin typeface="Book Antiqua"/>
                        </a:rPr>
                        <a:t>Fejlesztés helyszí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31f43"/>
                          </a:solidFill>
                          <a:latin typeface="Book Antiqua"/>
                        </a:rPr>
                        <a:t>Rövid leír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31f43"/>
                          </a:solidFill>
                          <a:latin typeface="Book Antiqua"/>
                        </a:rPr>
                        <a:t>Nettó költsé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36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200" spc="-1" strike="noStrike">
                          <a:solidFill>
                            <a:srgbClr val="002060"/>
                          </a:solidFill>
                          <a:latin typeface="Book Antiqua"/>
                        </a:rPr>
                        <a:t>Önkormányzati közutak, járdá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lvl="1" marL="852480" indent="-28584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1800" spc="-1" strike="noStrike">
                          <a:solidFill>
                            <a:srgbClr val="002060"/>
                          </a:solidFill>
                          <a:latin typeface="Book Antiqua"/>
                        </a:rPr>
                        <a:t>Rákóczi F. utcai járda meglévő betonburkolatú járda felújítása (Hold- Őrház utca közti szakasz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lvl="1" marL="566640"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1800" spc="-1" strike="noStrike">
                          <a:solidFill>
                            <a:srgbClr val="002060"/>
                          </a:solidFill>
                          <a:latin typeface="Book Antiqua"/>
                        </a:rPr>
                        <a:t>11 11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lvl="1" marL="852480" indent="-28584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1800" spc="-1" strike="noStrike">
                          <a:solidFill>
                            <a:srgbClr val="002060"/>
                          </a:solidFill>
                          <a:latin typeface="Book Antiqua"/>
                        </a:rPr>
                        <a:t>Rákóczi F. utcai útpadka javítás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lvl="1" marL="852480" indent="-285840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1800" spc="-1" strike="noStrike">
                          <a:solidFill>
                            <a:srgbClr val="002060"/>
                          </a:solidFill>
                          <a:latin typeface="Book Antiqua"/>
                        </a:rPr>
                        <a:t>     </a:t>
                      </a:r>
                      <a:r>
                        <a:rPr b="0" lang="hu-HU" sz="1800" spc="-1" strike="noStrike">
                          <a:solidFill>
                            <a:srgbClr val="002060"/>
                          </a:solidFill>
                          <a:latin typeface="Book Antiqua"/>
                        </a:rPr>
                        <a:t>(Szilágyi és Csatornapart utca közöt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lvl="1" marL="566640"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1800" spc="-1" strike="noStrike">
                          <a:solidFill>
                            <a:srgbClr val="002060"/>
                          </a:solidFill>
                          <a:latin typeface="Book Antiqua"/>
                        </a:rPr>
                        <a:t>4 7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1800" spc="-1" strike="noStrike">
                          <a:solidFill>
                            <a:srgbClr val="c00000"/>
                          </a:solidFill>
                          <a:latin typeface="Book Antiqua"/>
                        </a:rPr>
                        <a:t>   </a:t>
                      </a:r>
                      <a:r>
                        <a:rPr b="1" lang="hu-HU" sz="1800" spc="-1" strike="noStrike">
                          <a:solidFill>
                            <a:srgbClr val="c00000"/>
                          </a:solidFill>
                          <a:latin typeface="Book Antiqua"/>
                        </a:rPr>
                        <a:t>A feladatok megvalósítására elnyert támogatás össze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lvl="1" marL="566640"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1800" spc="-1" strike="noStrike">
                          <a:solidFill>
                            <a:srgbClr val="c00000"/>
                          </a:solidFill>
                          <a:latin typeface="Book Antiqua"/>
                        </a:rPr>
                        <a:t>1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70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200" spc="-1" strike="noStrike">
                          <a:solidFill>
                            <a:srgbClr val="002060"/>
                          </a:solidFill>
                          <a:latin typeface="Book Antiqua"/>
                        </a:rPr>
                        <a:t>Munkagép beszerzé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1800" spc="-1" strike="noStrike">
                          <a:solidFill>
                            <a:srgbClr val="002060"/>
                          </a:solidFill>
                          <a:latin typeface="Book Antiqua"/>
                        </a:rPr>
                        <a:t>Erő- és munkagép beszerzés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1800" spc="-1" strike="noStrike">
                          <a:solidFill>
                            <a:srgbClr val="002060"/>
                          </a:solidFill>
                          <a:latin typeface="Book Antiqua"/>
                        </a:rPr>
                        <a:t>(traktor és kompatibilis gréder, tolólap beszerzés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1800" spc="-1" strike="noStrike">
                          <a:solidFill>
                            <a:srgbClr val="002060"/>
                          </a:solidFill>
                          <a:latin typeface="Book Antiqua"/>
                        </a:rPr>
                        <a:t>10 32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1800" spc="-1" strike="noStrike">
                          <a:solidFill>
                            <a:srgbClr val="002060"/>
                          </a:solidFill>
                          <a:latin typeface="Book Antiqua"/>
                        </a:rPr>
                        <a:t>Ebből támogatás  </a:t>
                      </a:r>
                      <a:r>
                        <a:rPr b="1" lang="hu-HU" sz="1800" spc="-1" strike="noStrike">
                          <a:solidFill>
                            <a:srgbClr val="c00000"/>
                          </a:solidFill>
                          <a:latin typeface="Book Antiqua"/>
                        </a:rPr>
                        <a:t>87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07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Book Antiqua"/>
              </a:rPr>
              <a:t>Tervezett fejlesztések Balatonmáriafürdőn 2018</a:t>
            </a:r>
            <a:br>
              <a:rPr sz="3600"/>
            </a:br>
            <a:r>
              <a:rPr b="1" lang="hu-HU" sz="3600" spc="-1" strike="noStrike">
                <a:solidFill>
                  <a:srgbClr val="ffff00"/>
                </a:solidFill>
                <a:latin typeface="Book Antiqua"/>
              </a:rPr>
              <a:t>Önerős beruházások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6" name="Téglalap 4"/>
          <p:cNvSpPr/>
          <p:nvPr/>
        </p:nvSpPr>
        <p:spPr>
          <a:xfrm>
            <a:off x="8471160" y="1755720"/>
            <a:ext cx="1739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6436b"/>
                </a:solidFill>
                <a:latin typeface="Book Antiqua"/>
                <a:ea typeface="Times New Roman"/>
              </a:rPr>
              <a:t>Adatok: e Ft-ba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7" name="Kép 4" descr=""/>
          <p:cNvPicPr/>
          <p:nvPr/>
        </p:nvPicPr>
        <p:blipFill>
          <a:blip r:embed="rId1"/>
          <a:stretch/>
        </p:blipFill>
        <p:spPr>
          <a:xfrm>
            <a:off x="9325080" y="4059360"/>
            <a:ext cx="2890800" cy="30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8" name=""/>
          <p:cNvGraphicFramePr/>
          <p:nvPr/>
        </p:nvGraphicFramePr>
        <p:xfrm>
          <a:off x="468360" y="2619360"/>
          <a:ext cx="11207880" cy="3714840"/>
        </p:xfrm>
        <a:graphic>
          <a:graphicData uri="http://schemas.openxmlformats.org/drawingml/2006/table">
            <a:tbl>
              <a:tblPr/>
              <a:tblGrid>
                <a:gridCol w="3060720"/>
                <a:gridCol w="6480000"/>
                <a:gridCol w="1667160"/>
              </a:tblGrid>
              <a:tr h="619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31f43"/>
                          </a:solidFill>
                          <a:latin typeface="Book Antiqua"/>
                        </a:rPr>
                        <a:t>Fejlesztés helyszí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31f43"/>
                          </a:solidFill>
                          <a:latin typeface="Book Antiqua"/>
                        </a:rPr>
                        <a:t>Rövid leír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31f43"/>
                          </a:solidFill>
                          <a:latin typeface="Book Antiqua"/>
                        </a:rPr>
                        <a:t>Nettó költsé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200" spc="-1" strike="noStrike">
                          <a:solidFill>
                            <a:srgbClr val="002060"/>
                          </a:solidFill>
                          <a:latin typeface="Book Antiqua"/>
                        </a:rPr>
                        <a:t>Központi Fizető Stran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lvl="1" marL="852480" indent="-28584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000" spc="-1" strike="noStrike">
                          <a:solidFill>
                            <a:srgbClr val="002060"/>
                          </a:solidFill>
                          <a:latin typeface="Book Antiqua"/>
                        </a:rPr>
                        <a:t>Strand keleti oldalán közvilágítás kiépíté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lvl="1" marL="852480" indent="-285840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000" spc="-1" strike="noStrike">
                          <a:solidFill>
                            <a:srgbClr val="002060"/>
                          </a:solidFill>
                          <a:latin typeface="Book Antiqua"/>
                        </a:rPr>
                        <a:t>(kiépült járda mellett közvilágítási kandeláberek, lámpatestek telepítés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lvl="1" marL="566640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480">
                <a:tc row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200" spc="-1" strike="noStrike">
                          <a:solidFill>
                            <a:srgbClr val="002060"/>
                          </a:solidFill>
                          <a:latin typeface="Book Antiqua"/>
                        </a:rPr>
                        <a:t>Szabad strando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lvl="1" marL="852480" indent="-28584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1800" spc="-1" strike="noStrike">
                          <a:solidFill>
                            <a:srgbClr val="002060"/>
                          </a:solidFill>
                          <a:latin typeface="Book Antiqua"/>
                        </a:rPr>
                        <a:t>Öltözőfülke kialakítá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lvl="1" marL="566640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lvl="1" marL="852480" indent="-28584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1800" spc="-1" strike="noStrike">
                          <a:solidFill>
                            <a:srgbClr val="002060"/>
                          </a:solidFill>
                          <a:latin typeface="Book Antiqua"/>
                        </a:rPr>
                        <a:t>Hirdetőfelületek kialakítá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lvl="1" marL="566640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200" spc="-1" strike="noStrike">
                          <a:solidFill>
                            <a:srgbClr val="002060"/>
                          </a:solidFill>
                          <a:latin typeface="Book Antiqua"/>
                        </a:rPr>
                        <a:t>Közösségi há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lvl="1" marL="852480" indent="-285840">
                        <a:lnSpc>
                          <a:spcPct val="100000"/>
                        </a:lnSpc>
                        <a:buClr>
                          <a:srgbClr val="1b4171"/>
                        </a:buClr>
                        <a:buFont typeface="Arial"/>
                        <a:buChar char="•"/>
                        <a:tabLst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0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Közösségi ház parkolójának tereprendezése, kialakítása, kőszórás pótlása, szegélyezé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lvl="1" marL="566640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200" spc="-1" strike="noStrike">
                          <a:solidFill>
                            <a:srgbClr val="002060"/>
                          </a:solidFill>
                          <a:latin typeface="Book Antiqua"/>
                        </a:rPr>
                        <a:t>Óvod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marL="800280" indent="-285840">
                        <a:lnSpc>
                          <a:spcPct val="100000"/>
                        </a:lnSpc>
                        <a:buClr>
                          <a:srgbClr val="052e65"/>
                        </a:buClr>
                        <a:buFont typeface="Arial"/>
                        <a:buChar char="•"/>
                        <a:tabLst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1800" spc="-1" strike="noStrike">
                          <a:solidFill>
                            <a:srgbClr val="052e65"/>
                          </a:solidFill>
                          <a:latin typeface="Book Antiqua"/>
                        </a:rPr>
                        <a:t>Óvoda épületének részleges felújítás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800280" indent="-285840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1800" spc="-1" strike="noStrike">
                          <a:solidFill>
                            <a:srgbClr val="052e65"/>
                          </a:solidFill>
                          <a:latin typeface="Book Antiqua"/>
                        </a:rPr>
                        <a:t>    </a:t>
                      </a:r>
                      <a:r>
                        <a:rPr b="0" lang="hu-HU" sz="1800" spc="-1" strike="noStrike">
                          <a:solidFill>
                            <a:srgbClr val="052e65"/>
                          </a:solidFill>
                          <a:latin typeface="Book Antiqua"/>
                        </a:rPr>
                        <a:t>fűtés és világítás korszerűsítése, festés, stb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lvl="1" marL="566640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07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Book Antiqua"/>
              </a:rPr>
              <a:t>Tervezett, előkészítés alatt lévő fejlesztések Balatonmáriafürdőn 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0" name="Téglalap 4"/>
          <p:cNvSpPr/>
          <p:nvPr/>
        </p:nvSpPr>
        <p:spPr>
          <a:xfrm>
            <a:off x="8471160" y="1755720"/>
            <a:ext cx="1739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6436b"/>
                </a:solidFill>
                <a:latin typeface="Book Antiqua"/>
                <a:ea typeface="Times New Roman"/>
              </a:rPr>
              <a:t>Adatok: e Ft-ba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1" name="Kép 4" descr=""/>
          <p:cNvPicPr/>
          <p:nvPr/>
        </p:nvPicPr>
        <p:blipFill>
          <a:blip r:embed="rId1"/>
          <a:stretch/>
        </p:blipFill>
        <p:spPr>
          <a:xfrm>
            <a:off x="9325080" y="4059360"/>
            <a:ext cx="2890800" cy="3024000"/>
          </a:xfrm>
          <a:prstGeom prst="rect">
            <a:avLst/>
          </a:prstGeom>
          <a:ln w="0">
            <a:noFill/>
          </a:ln>
        </p:spPr>
      </p:pic>
      <p:sp>
        <p:nvSpPr>
          <p:cNvPr id="752" name="Cím 1"/>
          <p:cNvSpPr/>
          <p:nvPr/>
        </p:nvSpPr>
        <p:spPr>
          <a:xfrm>
            <a:off x="539640" y="387360"/>
            <a:ext cx="1107144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53" name=""/>
          <p:cNvGraphicFramePr/>
          <p:nvPr/>
        </p:nvGraphicFramePr>
        <p:xfrm>
          <a:off x="511200" y="2475000"/>
          <a:ext cx="11045880" cy="3448080"/>
        </p:xfrm>
        <a:graphic>
          <a:graphicData uri="http://schemas.openxmlformats.org/drawingml/2006/table">
            <a:tbl>
              <a:tblPr/>
              <a:tblGrid>
                <a:gridCol w="4118040"/>
                <a:gridCol w="4484520"/>
                <a:gridCol w="2443320"/>
              </a:tblGrid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31f43"/>
                          </a:solidFill>
                          <a:latin typeface="Book Antiqua"/>
                        </a:rPr>
                        <a:t>Fejlesztés helyszí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31f43"/>
                          </a:solidFill>
                          <a:latin typeface="Book Antiqua"/>
                        </a:rPr>
                        <a:t>Rövid leír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31f43"/>
                          </a:solidFill>
                          <a:latin typeface="Book Antiqua"/>
                        </a:rPr>
                        <a:t>Bruttó költsé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Zagytéri ingat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1b4171"/>
                        </a:buClr>
                        <a:buFont typeface="Arial"/>
                        <a:buChar char="•"/>
                        <a:tabLst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16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Sportpark létesítése (kültéri fitnesz eszközökke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 row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Zagytéri ingatlan é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Csatornapart utc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1b4171"/>
                        </a:buClr>
                        <a:buFont typeface="Arial"/>
                        <a:buChar char="•"/>
                        <a:tabLst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16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Zagytéri ingatlanon sport és szabadidőcentrum kialakítása Magyar és Benke tervek alapjá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1b4171"/>
                        </a:buClr>
                        <a:buFont typeface="Arial"/>
                        <a:buChar char="•"/>
                        <a:tabLst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16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Csatornapart utca kialakítása, felújítása, csapadékvíz elvezetés, közvilágítá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Őrház utca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közlekedési csomópont felújít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1b4171"/>
                        </a:buClr>
                        <a:buFont typeface="Arial"/>
                        <a:buChar char="•"/>
                        <a:tabLst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16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 </a:t>
                      </a:r>
                      <a:r>
                        <a:rPr b="0" lang="hu-HU" sz="16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gyalogos vasúti átjáró és a hozzá kapcsolódó járda, sétány építése, parkolók kialakítá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Csónakkikötő felújít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18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(meglévő kikötő felújítása,bővítés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1b4171"/>
                        </a:buClr>
                        <a:buFont typeface="Arial"/>
                        <a:buChar char="•"/>
                        <a:tabLst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16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497/1-3 hrsz-ú területen Balatoni Hajózási Zrt. által készített kiviteli terv alapján kikötő felújítá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07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Book Antiqua"/>
              </a:rPr>
              <a:t>Folyamatban lévő fejlesztések Balatonmáriafürdőn 2018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5" name="Téglalap 4"/>
          <p:cNvSpPr/>
          <p:nvPr/>
        </p:nvSpPr>
        <p:spPr>
          <a:xfrm>
            <a:off x="8471160" y="1755720"/>
            <a:ext cx="1739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6436b"/>
                </a:solidFill>
                <a:latin typeface="Book Antiqua"/>
                <a:ea typeface="Times New Roman"/>
              </a:rPr>
              <a:t>Adatok: e Ft-ba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6" name="Kép 4" descr=""/>
          <p:cNvPicPr/>
          <p:nvPr/>
        </p:nvPicPr>
        <p:blipFill>
          <a:blip r:embed="rId1"/>
          <a:stretch/>
        </p:blipFill>
        <p:spPr>
          <a:xfrm>
            <a:off x="9340920" y="4059360"/>
            <a:ext cx="2890800" cy="30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7" name=""/>
          <p:cNvGraphicFramePr/>
          <p:nvPr/>
        </p:nvGraphicFramePr>
        <p:xfrm>
          <a:off x="503280" y="2671920"/>
          <a:ext cx="11712600" cy="1542960"/>
        </p:xfrm>
        <a:graphic>
          <a:graphicData uri="http://schemas.openxmlformats.org/drawingml/2006/table">
            <a:tbl>
              <a:tblPr/>
              <a:tblGrid>
                <a:gridCol w="4583160"/>
                <a:gridCol w="4968720"/>
                <a:gridCol w="2160720"/>
              </a:tblGrid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31f43"/>
                          </a:solidFill>
                          <a:latin typeface="Book Antiqua"/>
                        </a:rPr>
                        <a:t>Fejlesztés helyszí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31f43"/>
                          </a:solidFill>
                          <a:latin typeface="Book Antiqua"/>
                        </a:rPr>
                        <a:t>Rövid leír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31f43"/>
                          </a:solidFill>
                          <a:latin typeface="Book Antiqua"/>
                        </a:rPr>
                        <a:t>Nettó költsé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Rákóczi utca felújítása Csatornapart és Vilma utca részleges felújításáv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0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Elektromos, gáz, internet hálózat építés, Út, sétány parkoló építés. Csapadékvíz elvezetés, közvilágítás építése,növénytelepítés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Kb.: 440 millió fori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8" name="AutoShape 20"/>
          <p:cNvSpPr/>
          <p:nvPr/>
        </p:nvSpPr>
        <p:spPr>
          <a:xfrm>
            <a:off x="1317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9" name="Picture 21" descr=""/>
          <p:cNvPicPr/>
          <p:nvPr/>
        </p:nvPicPr>
        <p:blipFill>
          <a:blip r:embed="rId2"/>
          <a:stretch/>
        </p:blipFill>
        <p:spPr>
          <a:xfrm>
            <a:off x="612720" y="4197240"/>
            <a:ext cx="3851280" cy="288612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22" descr=""/>
          <p:cNvPicPr/>
          <p:nvPr/>
        </p:nvPicPr>
        <p:blipFill>
          <a:blip r:embed="rId3"/>
          <a:stretch/>
        </p:blipFill>
        <p:spPr>
          <a:xfrm>
            <a:off x="4716360" y="4186080"/>
            <a:ext cx="3888000" cy="2918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hu-HU" sz="5500" spc="-1" strike="noStrike">
                <a:solidFill>
                  <a:srgbClr val="ffffff"/>
                </a:solidFill>
                <a:latin typeface="Candara"/>
              </a:rPr>
              <a:t>Balatonmáriafürdő</a:t>
            </a: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1" name="Téglalap 2"/>
          <p:cNvSpPr/>
          <p:nvPr/>
        </p:nvSpPr>
        <p:spPr>
          <a:xfrm>
            <a:off x="1476360" y="2475000"/>
            <a:ext cx="9864720" cy="43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5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hu-HU" sz="2800" spc="-1" strike="noStrike">
                <a:solidFill>
                  <a:srgbClr val="052e65"/>
                </a:solidFill>
                <a:latin typeface="Book Antiqua"/>
              </a:rPr>
              <a:t>Községünk belterülete:</a:t>
            </a:r>
            <a:r>
              <a:rPr b="1" lang="hu-HU" sz="2800" spc="-1" strike="noStrike">
                <a:solidFill>
                  <a:srgbClr val="052e65"/>
                </a:solidFill>
                <a:latin typeface="Book Antiqua"/>
              </a:rPr>
              <a:t> (290 h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5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hu-HU" sz="2800" spc="-1" strike="noStrike">
                <a:solidFill>
                  <a:srgbClr val="052e65"/>
                </a:solidFill>
                <a:latin typeface="Book Antiqua"/>
              </a:rPr>
              <a:t>Külterület (Balaton) </a:t>
            </a:r>
            <a:r>
              <a:rPr b="1" lang="hu-HU" sz="2800" spc="-1" strike="noStrike">
                <a:solidFill>
                  <a:srgbClr val="052e65"/>
                </a:solidFill>
                <a:latin typeface="Book Antiqua"/>
              </a:rPr>
              <a:t>2386 h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5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hu-HU" sz="2800" spc="-1" strike="noStrike">
                <a:solidFill>
                  <a:srgbClr val="052e65"/>
                </a:solidFill>
                <a:latin typeface="Book Antiqua"/>
              </a:rPr>
              <a:t>Úthálózatunk hossza: </a:t>
            </a:r>
            <a:r>
              <a:rPr b="1" lang="hu-HU" sz="2800" spc="-1" strike="noStrike">
                <a:solidFill>
                  <a:srgbClr val="052e65"/>
                </a:solidFill>
                <a:latin typeface="Book Antiqua"/>
              </a:rPr>
              <a:t>37 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5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hu-HU" sz="2800" spc="-1" strike="noStrike">
                <a:solidFill>
                  <a:srgbClr val="052e65"/>
                </a:solidFill>
                <a:latin typeface="Book Antiqua"/>
              </a:rPr>
              <a:t>Állandó lakosok száma: </a:t>
            </a:r>
            <a:r>
              <a:rPr b="1" lang="hu-HU" sz="2800" spc="-1" strike="noStrike">
                <a:solidFill>
                  <a:srgbClr val="031f43"/>
                </a:solidFill>
                <a:latin typeface="Book Antiqua"/>
              </a:rPr>
              <a:t>761  fő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5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hu-HU" sz="2800" spc="-1" strike="noStrike">
                <a:solidFill>
                  <a:srgbClr val="052e65"/>
                </a:solidFill>
                <a:latin typeface="Book Antiqua"/>
              </a:rPr>
              <a:t>Lakó ingatlanok száma</a:t>
            </a:r>
            <a:r>
              <a:rPr b="0" lang="hu-HU" sz="2800" spc="-1" strike="noStrike">
                <a:solidFill>
                  <a:srgbClr val="031f43"/>
                </a:solidFill>
                <a:latin typeface="Book Antiqua"/>
              </a:rPr>
              <a:t>:</a:t>
            </a:r>
            <a:r>
              <a:rPr b="0" lang="hu-HU" sz="2800" spc="-1" strike="noStrike">
                <a:solidFill>
                  <a:srgbClr val="002060"/>
                </a:solidFill>
                <a:latin typeface="Book Antiqua"/>
              </a:rPr>
              <a:t> </a:t>
            </a:r>
            <a:r>
              <a:rPr b="1" lang="hu-HU" sz="2800" spc="-1" strike="noStrike">
                <a:solidFill>
                  <a:srgbClr val="002060"/>
                </a:solidFill>
                <a:latin typeface="Book Antiqua"/>
              </a:rPr>
              <a:t>438</a:t>
            </a:r>
            <a:r>
              <a:rPr b="0" lang="hu-HU" sz="2800" spc="-1" strike="noStrike">
                <a:solidFill>
                  <a:srgbClr val="052e65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5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hu-HU" sz="2800" spc="-1" strike="noStrike">
                <a:solidFill>
                  <a:srgbClr val="052e65"/>
                </a:solidFill>
                <a:latin typeface="Book Antiqua"/>
              </a:rPr>
              <a:t>Üdülő ingatlanok száma:</a:t>
            </a:r>
            <a:r>
              <a:rPr b="0" lang="hu-HU" sz="2800" spc="-1" strike="noStrike">
                <a:solidFill>
                  <a:srgbClr val="002060"/>
                </a:solidFill>
                <a:latin typeface="Book Antiqua"/>
              </a:rPr>
              <a:t> </a:t>
            </a:r>
            <a:r>
              <a:rPr b="1" lang="hu-HU" sz="2800" spc="-1" strike="noStrike">
                <a:solidFill>
                  <a:srgbClr val="002060"/>
                </a:solidFill>
                <a:latin typeface="Book Antiqua"/>
              </a:rPr>
              <a:t>229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07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Book Antiqua"/>
              </a:rPr>
              <a:t>Folyamatban lévő fejlesztések Balatonmáriafürdőn 2018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762" name="Kép 4" descr=""/>
          <p:cNvPicPr/>
          <p:nvPr/>
        </p:nvPicPr>
        <p:blipFill>
          <a:blip r:embed="rId1"/>
          <a:stretch/>
        </p:blipFill>
        <p:spPr>
          <a:xfrm>
            <a:off x="9325080" y="4059360"/>
            <a:ext cx="2890800" cy="3024000"/>
          </a:xfrm>
          <a:prstGeom prst="rect">
            <a:avLst/>
          </a:prstGeom>
          <a:ln w="0">
            <a:noFill/>
          </a:ln>
        </p:spPr>
      </p:pic>
      <p:sp>
        <p:nvSpPr>
          <p:cNvPr id="763" name="Rectangle 7"/>
          <p:cNvSpPr/>
          <p:nvPr/>
        </p:nvSpPr>
        <p:spPr>
          <a:xfrm>
            <a:off x="468360" y="2763720"/>
            <a:ext cx="1134108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hu-HU" sz="5500" spc="-1" strike="noStrike">
                <a:solidFill>
                  <a:srgbClr val="1b4171"/>
                </a:solidFill>
                <a:latin typeface="Book Antiqua"/>
              </a:rPr>
              <a:t>Vasúti pálya felújítás</a:t>
            </a:r>
            <a:endParaRPr b="0" lang="en-US" sz="5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4" name="Picture 6" descr="Képtalálat a következőre: „vasúti pálya felújítás balatonmáriafürdő”"/>
          <p:cNvPicPr/>
          <p:nvPr/>
        </p:nvPicPr>
        <p:blipFill>
          <a:blip r:embed="rId2"/>
          <a:srcRect l="6181" t="15013" r="5740" b="14037"/>
          <a:stretch/>
        </p:blipFill>
        <p:spPr>
          <a:xfrm>
            <a:off x="992160" y="3951360"/>
            <a:ext cx="4386240" cy="265104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8" descr="Képtalálat a következőre: „vasút felújítás balatonmáriafürdő”"/>
          <p:cNvPicPr/>
          <p:nvPr/>
        </p:nvPicPr>
        <p:blipFill>
          <a:blip r:embed="rId3"/>
          <a:srcRect l="0" t="6187" r="0" b="0"/>
          <a:stretch/>
        </p:blipFill>
        <p:spPr>
          <a:xfrm>
            <a:off x="5796000" y="3952800"/>
            <a:ext cx="3835440" cy="2697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Kép 4" descr=""/>
          <p:cNvPicPr/>
          <p:nvPr/>
        </p:nvPicPr>
        <p:blipFill>
          <a:blip r:embed="rId1"/>
          <a:stretch/>
        </p:blipFill>
        <p:spPr>
          <a:xfrm>
            <a:off x="9325080" y="4059360"/>
            <a:ext cx="2890800" cy="3024000"/>
          </a:xfrm>
          <a:prstGeom prst="rect">
            <a:avLst/>
          </a:prstGeom>
          <a:ln w="0">
            <a:noFill/>
          </a:ln>
        </p:spPr>
      </p:pic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Book Antiqua"/>
              </a:rPr>
              <a:t>Balatonmáriafürdő Önkormányzatának vagyona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8" name="Téglalap 4"/>
          <p:cNvSpPr/>
          <p:nvPr/>
        </p:nvSpPr>
        <p:spPr>
          <a:xfrm>
            <a:off x="1717560" y="1305000"/>
            <a:ext cx="8928360" cy="9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002060"/>
                </a:solidFill>
                <a:latin typeface="Book Antiqua"/>
              </a:rPr>
              <a:t>Az Önkormányzat vagyona a  2016. évi zárómérleg alapján   </a:t>
            </a:r>
            <a:r>
              <a:rPr b="1" lang="hu-HU" sz="1900" spc="-1" strike="noStrike" u="sng">
                <a:solidFill>
                  <a:srgbClr val="ffff00"/>
                </a:solidFill>
                <a:uFillTx/>
                <a:latin typeface="Book Antiqua"/>
              </a:rPr>
              <a:t>4 429</a:t>
            </a:r>
            <a:r>
              <a:rPr b="1" lang="hu-HU" sz="1900" spc="-1" strike="noStrike">
                <a:solidFill>
                  <a:srgbClr val="ffff00"/>
                </a:solidFill>
                <a:latin typeface="Book Antiqua"/>
              </a:rPr>
              <a:t>  millió </a:t>
            </a:r>
            <a:r>
              <a:rPr b="1" lang="hu-HU" sz="1900" spc="-1" strike="noStrike">
                <a:solidFill>
                  <a:srgbClr val="002060"/>
                </a:solidFill>
                <a:latin typeface="Book Antiqua"/>
              </a:rPr>
              <a:t>forint.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69" name="Objektum 3"/>
          <p:cNvGraphicFramePr/>
          <p:nvPr/>
        </p:nvGraphicFramePr>
        <p:xfrm>
          <a:off x="682560" y="2701800"/>
          <a:ext cx="11234880" cy="3092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70" name="Objektum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2560" y="2701800"/>
                    <a:ext cx="11234880" cy="30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Kép 4" descr=""/>
          <p:cNvPicPr/>
          <p:nvPr/>
        </p:nvPicPr>
        <p:blipFill>
          <a:blip r:embed="rId1"/>
          <a:stretch/>
        </p:blipFill>
        <p:spPr>
          <a:xfrm>
            <a:off x="9325080" y="4059360"/>
            <a:ext cx="2890800" cy="3024000"/>
          </a:xfrm>
          <a:prstGeom prst="rect">
            <a:avLst/>
          </a:prstGeom>
          <a:ln w="0">
            <a:noFill/>
          </a:ln>
        </p:spPr>
      </p:pic>
      <p:pic>
        <p:nvPicPr>
          <p:cNvPr id="772" name="Diagram 5" descr=""/>
          <p:cNvPicPr/>
          <p:nvPr/>
        </p:nvPicPr>
        <p:blipFill>
          <a:blip r:embed="rId2"/>
          <a:stretch/>
        </p:blipFill>
        <p:spPr>
          <a:xfrm>
            <a:off x="396720" y="2425680"/>
            <a:ext cx="10655280" cy="4444920"/>
          </a:xfrm>
          <a:prstGeom prst="rect">
            <a:avLst/>
          </a:prstGeom>
          <a:ln w="0">
            <a:noFill/>
          </a:ln>
        </p:spPr>
      </p:pic>
      <p:sp>
        <p:nvSpPr>
          <p:cNvPr id="773" name="Rectangle 2"/>
          <p:cNvSpPr/>
          <p:nvPr/>
        </p:nvSpPr>
        <p:spPr>
          <a:xfrm>
            <a:off x="782640" y="509760"/>
            <a:ext cx="113410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hu-HU" sz="3600" spc="-1" strike="noStrike">
                <a:solidFill>
                  <a:srgbClr val="ffff66"/>
                </a:solidFill>
                <a:latin typeface="Book Antiqua"/>
              </a:rPr>
              <a:t>Helyi adóbevételek 2008-2017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4" name="Diagram 1"/>
          <p:cNvGraphicFramePr/>
          <p:nvPr/>
        </p:nvGraphicFramePr>
        <p:xfrm>
          <a:off x="476280" y="2476440"/>
          <a:ext cx="7238880" cy="447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5" name="Diagram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2476440"/>
                    <a:ext cx="7238880" cy="447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hu-HU" sz="3600" spc="-1" strike="noStrike">
                <a:solidFill>
                  <a:srgbClr val="ffff66"/>
                </a:solidFill>
                <a:latin typeface="Book Antiqua"/>
              </a:rPr>
              <a:t>Vendégéjszakák megoszlása 2017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777" name="Kép 3" descr=""/>
          <p:cNvPicPr/>
          <p:nvPr/>
        </p:nvPicPr>
        <p:blipFill>
          <a:blip r:embed="rId3"/>
          <a:stretch/>
        </p:blipFill>
        <p:spPr>
          <a:xfrm>
            <a:off x="9325080" y="4059360"/>
            <a:ext cx="2890800" cy="302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Kép 4" descr=""/>
          <p:cNvPicPr/>
          <p:nvPr/>
        </p:nvPicPr>
        <p:blipFill>
          <a:blip r:embed="rId1"/>
          <a:stretch/>
        </p:blipFill>
        <p:spPr>
          <a:xfrm>
            <a:off x="9325080" y="4059360"/>
            <a:ext cx="2890800" cy="30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9" name="Objektum 1"/>
          <p:cNvGraphicFramePr/>
          <p:nvPr/>
        </p:nvGraphicFramePr>
        <p:xfrm>
          <a:off x="476280" y="1676520"/>
          <a:ext cx="10648800" cy="5467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80" name="Objektum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6280" y="1676520"/>
                    <a:ext cx="1064880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hu-HU" sz="3600" spc="-1" strike="noStrike">
                <a:solidFill>
                  <a:srgbClr val="ffff66"/>
                </a:solidFill>
                <a:latin typeface="Book Antiqua"/>
              </a:rPr>
              <a:t>Idegenforgalmi adóbevételek 2008-2017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Kép 4" descr=""/>
          <p:cNvPicPr/>
          <p:nvPr/>
        </p:nvPicPr>
        <p:blipFill>
          <a:blip r:embed="rId1"/>
          <a:stretch/>
        </p:blipFill>
        <p:spPr>
          <a:xfrm>
            <a:off x="9325080" y="4059360"/>
            <a:ext cx="2890800" cy="3024000"/>
          </a:xfrm>
          <a:prstGeom prst="rect">
            <a:avLst/>
          </a:prstGeom>
          <a:ln w="0">
            <a:noFill/>
          </a:ln>
        </p:spPr>
      </p:pic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hu-HU" sz="3600" spc="-1" strike="noStrike">
                <a:solidFill>
                  <a:srgbClr val="ffff66"/>
                </a:solidFill>
                <a:latin typeface="Book Antiqua"/>
              </a:rPr>
              <a:t>Iparűzési adóbevételek 2008 - 2017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1116000" y="2612880"/>
            <a:ext cx="1072980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85" name=""/>
          <p:cNvGraphicFramePr/>
          <p:nvPr/>
        </p:nvGraphicFramePr>
        <p:xfrm>
          <a:off x="828720" y="2257560"/>
          <a:ext cx="4176720" cy="4502160"/>
        </p:xfrm>
        <a:graphic>
          <a:graphicData uri="http://schemas.openxmlformats.org/drawingml/2006/table">
            <a:tbl>
              <a:tblPr/>
              <a:tblGrid>
                <a:gridCol w="1193760"/>
                <a:gridCol w="2982960"/>
              </a:tblGrid>
              <a:tr h="741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Év</a:t>
                      </a: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Befizetett iparűzési adó össze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200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2 3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2009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8 0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2010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2 6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75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201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2 6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201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2 5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201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4 5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201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7 6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201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7 4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201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8 7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81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201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9 3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</a:tr>
            </a:tbl>
          </a:graphicData>
        </a:graphic>
      </p:graphicFrame>
      <p:sp>
        <p:nvSpPr>
          <p:cNvPr id="786" name="Téglalap 4"/>
          <p:cNvSpPr/>
          <p:nvPr/>
        </p:nvSpPr>
        <p:spPr>
          <a:xfrm>
            <a:off x="8471160" y="1755720"/>
            <a:ext cx="1739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6436b"/>
                </a:solidFill>
                <a:latin typeface="Book Antiqua"/>
                <a:ea typeface="Times New Roman"/>
              </a:rPr>
              <a:t>Adatok: e Ft-ba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Szaggatott nyíl jobbra 5"/>
          <p:cNvSpPr/>
          <p:nvPr/>
        </p:nvSpPr>
        <p:spPr>
          <a:xfrm>
            <a:off x="5364000" y="3693960"/>
            <a:ext cx="1657440" cy="1513080"/>
          </a:xfrm>
          <a:custGeom>
            <a:avLst/>
            <a:gdLst/>
            <a:ahLst/>
            <a:rect l="l" t="t" r="r" b="b"/>
            <a:pathLst>
              <a:path w="1657350" h="1512887">
                <a:moveTo>
                  <a:pt x="0" y="378222"/>
                </a:moveTo>
                <a:lnTo>
                  <a:pt x="47278" y="378222"/>
                </a:lnTo>
                <a:lnTo>
                  <a:pt x="47278" y="1134665"/>
                </a:lnTo>
                <a:lnTo>
                  <a:pt x="0" y="1134665"/>
                </a:lnTo>
                <a:lnTo>
                  <a:pt x="0" y="378222"/>
                </a:lnTo>
                <a:close/>
                <a:moveTo>
                  <a:pt x="94555" y="378222"/>
                </a:moveTo>
                <a:lnTo>
                  <a:pt x="189111" y="378222"/>
                </a:lnTo>
                <a:lnTo>
                  <a:pt x="189111" y="1134665"/>
                </a:lnTo>
                <a:lnTo>
                  <a:pt x="94555" y="1134665"/>
                </a:lnTo>
                <a:lnTo>
                  <a:pt x="94555" y="378222"/>
                </a:lnTo>
                <a:close/>
                <a:moveTo>
                  <a:pt x="236389" y="378222"/>
                </a:moveTo>
                <a:lnTo>
                  <a:pt x="900907" y="378222"/>
                </a:lnTo>
                <a:lnTo>
                  <a:pt x="900907" y="0"/>
                </a:lnTo>
                <a:lnTo>
                  <a:pt x="1657350" y="756444"/>
                </a:lnTo>
                <a:lnTo>
                  <a:pt x="900907" y="1512887"/>
                </a:lnTo>
                <a:lnTo>
                  <a:pt x="900907" y="1134665"/>
                </a:lnTo>
                <a:lnTo>
                  <a:pt x="236389" y="1134665"/>
                </a:lnTo>
                <a:lnTo>
                  <a:pt x="236389" y="378222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Szövegdoboz 7"/>
          <p:cNvSpPr/>
          <p:nvPr/>
        </p:nvSpPr>
        <p:spPr>
          <a:xfrm>
            <a:off x="6635880" y="2897280"/>
            <a:ext cx="558000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Book Antiqua"/>
                <a:ea typeface="Tahoma"/>
              </a:rPr>
              <a:t>2017.Évb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Book Antiqua"/>
                <a:ea typeface="Tahoma"/>
              </a:rPr>
              <a:t>195 adó alan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Book Antiqua"/>
                <a:ea typeface="Tahoma"/>
              </a:rPr>
              <a:t>19 304 e Ft adóbevét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Book Antiqua"/>
                <a:ea typeface="Tahoma"/>
              </a:rPr>
              <a:t>Ebbő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Book Antiqua"/>
                <a:ea typeface="Tahoma"/>
              </a:rPr>
              <a:t>Vendéglátó és Kereskedelmi szolgáltatással foglalkozók száma: </a:t>
            </a:r>
            <a:r>
              <a:rPr b="0" lang="hu-HU" sz="3200" spc="-1" strike="noStrike">
                <a:solidFill>
                  <a:srgbClr val="000000"/>
                </a:solidFill>
                <a:latin typeface="Book Antiqua"/>
                <a:ea typeface="Tahoma"/>
              </a:rPr>
              <a:t>36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000000"/>
                </a:solidFill>
                <a:latin typeface="Book Antiqua"/>
              </a:rPr>
              <a:t>5 900 e 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9" name="Lefelé nyíl 8"/>
          <p:cNvSpPr/>
          <p:nvPr/>
        </p:nvSpPr>
        <p:spPr>
          <a:xfrm>
            <a:off x="9161640" y="4564080"/>
            <a:ext cx="358560" cy="33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Kép 4" descr=""/>
          <p:cNvPicPr/>
          <p:nvPr/>
        </p:nvPicPr>
        <p:blipFill>
          <a:blip r:embed="rId1"/>
          <a:stretch/>
        </p:blipFill>
        <p:spPr>
          <a:xfrm>
            <a:off x="9325080" y="4059360"/>
            <a:ext cx="2890800" cy="3024000"/>
          </a:xfrm>
          <a:prstGeom prst="rect">
            <a:avLst/>
          </a:prstGeom>
          <a:ln w="0">
            <a:noFill/>
          </a:ln>
        </p:spPr>
      </p:pic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hu-HU" sz="3600" spc="-1" strike="noStrike">
                <a:solidFill>
                  <a:srgbClr val="ffff66"/>
                </a:solidFill>
                <a:latin typeface="Book Antiqua"/>
              </a:rPr>
              <a:t>Idegenforgalmi adóbevételek 2008 - 2017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2" name="Rectangle 5"/>
          <p:cNvSpPr/>
          <p:nvPr/>
        </p:nvSpPr>
        <p:spPr>
          <a:xfrm>
            <a:off x="1116000" y="2612880"/>
            <a:ext cx="1072980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93" name=""/>
          <p:cNvGraphicFramePr/>
          <p:nvPr/>
        </p:nvGraphicFramePr>
        <p:xfrm>
          <a:off x="828720" y="2257560"/>
          <a:ext cx="5327640" cy="4330440"/>
        </p:xfrm>
        <a:graphic>
          <a:graphicData uri="http://schemas.openxmlformats.org/drawingml/2006/table">
            <a:tbl>
              <a:tblPr/>
              <a:tblGrid>
                <a:gridCol w="936720"/>
                <a:gridCol w="1295280"/>
                <a:gridCol w="1440000"/>
                <a:gridCol w="1655640"/>
              </a:tblGrid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Év</a:t>
                      </a: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ag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Jog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Összes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200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7 401 3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 276 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10 677 4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2009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8 067 1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4 211 3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12 278 4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619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2010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0 117 1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5 418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15 535 1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201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7 879 6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6 369 5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14 249 2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201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8 692 5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6 627 8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15 320 3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619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201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0 172 7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6 509 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15 320 3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619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201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1 560 9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4 616 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16 177 2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619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201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0 896 9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5 083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15 979 9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619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201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0 556 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7 218 3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17 774 6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619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201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6 94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5 601 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11 342 9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</a:tr>
            </a:tbl>
          </a:graphicData>
        </a:graphic>
      </p:graphicFrame>
      <p:sp>
        <p:nvSpPr>
          <p:cNvPr id="794" name="Szaggatott nyíl jobbra 5"/>
          <p:cNvSpPr/>
          <p:nvPr/>
        </p:nvSpPr>
        <p:spPr>
          <a:xfrm>
            <a:off x="6365880" y="3654360"/>
            <a:ext cx="1160280" cy="1513080"/>
          </a:xfrm>
          <a:custGeom>
            <a:avLst/>
            <a:gdLst/>
            <a:ahLst/>
            <a:rect l="l" t="t" r="r" b="b"/>
            <a:pathLst>
              <a:path w="1160463" h="1512888">
                <a:moveTo>
                  <a:pt x="0" y="378222"/>
                </a:moveTo>
                <a:lnTo>
                  <a:pt x="36264" y="378222"/>
                </a:lnTo>
                <a:lnTo>
                  <a:pt x="36264" y="1134666"/>
                </a:lnTo>
                <a:lnTo>
                  <a:pt x="0" y="1134666"/>
                </a:lnTo>
                <a:lnTo>
                  <a:pt x="0" y="378222"/>
                </a:lnTo>
                <a:close/>
                <a:moveTo>
                  <a:pt x="72529" y="378222"/>
                </a:moveTo>
                <a:lnTo>
                  <a:pt x="145058" y="378222"/>
                </a:lnTo>
                <a:lnTo>
                  <a:pt x="145058" y="1134666"/>
                </a:lnTo>
                <a:lnTo>
                  <a:pt x="72529" y="1134666"/>
                </a:lnTo>
                <a:lnTo>
                  <a:pt x="72529" y="378222"/>
                </a:lnTo>
                <a:close/>
                <a:moveTo>
                  <a:pt x="181322" y="378222"/>
                </a:moveTo>
                <a:lnTo>
                  <a:pt x="580232" y="378222"/>
                </a:lnTo>
                <a:lnTo>
                  <a:pt x="580232" y="0"/>
                </a:lnTo>
                <a:lnTo>
                  <a:pt x="1160463" y="756444"/>
                </a:lnTo>
                <a:lnTo>
                  <a:pt x="580232" y="1512888"/>
                </a:lnTo>
                <a:lnTo>
                  <a:pt x="580232" y="1134666"/>
                </a:lnTo>
                <a:lnTo>
                  <a:pt x="181322" y="1134666"/>
                </a:lnTo>
                <a:lnTo>
                  <a:pt x="181322" y="378222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5" name="Szövegdoboz 7"/>
          <p:cNvSpPr/>
          <p:nvPr/>
        </p:nvSpPr>
        <p:spPr>
          <a:xfrm>
            <a:off x="7380360" y="2908440"/>
            <a:ext cx="483552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Book Antiqua"/>
                <a:ea typeface="Tahoma"/>
              </a:rPr>
              <a:t>2017.Évb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Book Antiqua"/>
                <a:ea typeface="Tahoma"/>
              </a:rPr>
              <a:t>Jogi személyiségű adóalany: 25 d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Book Antiqua"/>
                <a:ea typeface="Tahoma"/>
              </a:rPr>
              <a:t>Magánszemély adóalany: 451 d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Book Antiqua"/>
              </a:rPr>
              <a:t>A 9 DB JOGI SZEMÉLY FIZET </a:t>
            </a:r>
            <a:r>
              <a:rPr b="1" i="1" lang="hu-HU" sz="2000" spc="-1" strike="noStrike" u="sng">
                <a:solidFill>
                  <a:srgbClr val="000000"/>
                </a:solidFill>
                <a:uFillTx/>
                <a:latin typeface="Book Antiqua"/>
              </a:rPr>
              <a:t>IDEGENFORGALMI ÉS IPARŰZÉSI </a:t>
            </a:r>
            <a:r>
              <a:rPr b="1" i="1" lang="hu-HU" sz="2000" spc="-1" strike="noStrike">
                <a:solidFill>
                  <a:srgbClr val="000000"/>
                </a:solidFill>
                <a:latin typeface="Book Antiqua"/>
              </a:rPr>
              <a:t>ADÓT I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68000" y="1971720"/>
            <a:ext cx="11341080" cy="31687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hu-HU" sz="5500" spc="-1" strike="noStrike">
                <a:solidFill>
                  <a:srgbClr val="1b4171"/>
                </a:solidFill>
                <a:latin typeface="Book Antiqua"/>
              </a:rPr>
              <a:t>KÖSZÖNÖM A FIGYELMET!</a:t>
            </a: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797" name="Kép 2" descr=""/>
          <p:cNvPicPr/>
          <p:nvPr/>
        </p:nvPicPr>
        <p:blipFill>
          <a:blip r:embed="rId1"/>
          <a:stretch/>
        </p:blipFill>
        <p:spPr>
          <a:xfrm>
            <a:off x="9325080" y="4059360"/>
            <a:ext cx="2890800" cy="302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Kép 26" descr=""/>
          <p:cNvPicPr/>
          <p:nvPr/>
        </p:nvPicPr>
        <p:blipFill>
          <a:blip r:embed="rId1"/>
          <a:stretch/>
        </p:blipFill>
        <p:spPr>
          <a:xfrm>
            <a:off x="9325080" y="4059360"/>
            <a:ext cx="2890800" cy="302400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Book Antiqua"/>
              </a:rPr>
              <a:t>Balatonmáriafürdői Önkormányzat  szervezetei felépítése </a:t>
            </a:r>
            <a:br>
              <a:rPr sz="3200"/>
            </a:br>
            <a:r>
              <a:rPr b="1" lang="hu-HU" sz="3200" spc="-1" strike="noStrike">
                <a:solidFill>
                  <a:srgbClr val="ffff00"/>
                </a:solidFill>
                <a:latin typeface="Book Antiqua"/>
              </a:rPr>
              <a:t>2013. január 1-től</a:t>
            </a:r>
            <a:r>
              <a:rPr b="1" lang="hu-HU" sz="3200" spc="-1" strike="noStrike">
                <a:solidFill>
                  <a:srgbClr val="ffffff"/>
                </a:solidFill>
                <a:latin typeface="Candar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4" name="Rectangle 17"/>
          <p:cNvSpPr/>
          <p:nvPr/>
        </p:nvSpPr>
        <p:spPr>
          <a:xfrm>
            <a:off x="4500720" y="2114640"/>
            <a:ext cx="2977920" cy="455400"/>
          </a:xfrm>
          <a:prstGeom prst="rect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0920" rIns="7092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hu-HU" sz="1600" spc="-1" strike="noStrike">
                <a:solidFill>
                  <a:srgbClr val="000000"/>
                </a:solidFill>
                <a:latin typeface="Book Antiqua"/>
              </a:rPr>
              <a:t>Képviselő-testüle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Rectangle 18"/>
          <p:cNvSpPr/>
          <p:nvPr/>
        </p:nvSpPr>
        <p:spPr>
          <a:xfrm>
            <a:off x="4871880" y="3198960"/>
            <a:ext cx="2284560" cy="455400"/>
          </a:xfrm>
          <a:prstGeom prst="rect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0920" rIns="7092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Book Antiqua"/>
              </a:rPr>
              <a:t>Polgármest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Rectangle 19"/>
          <p:cNvSpPr/>
          <p:nvPr/>
        </p:nvSpPr>
        <p:spPr>
          <a:xfrm>
            <a:off x="7156440" y="6270480"/>
            <a:ext cx="3336840" cy="68436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0920" rIns="7092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Book Antiqua"/>
              </a:rPr>
              <a:t>Településüzemeltetési Iroda 9 fő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Rectangle 21"/>
          <p:cNvSpPr/>
          <p:nvPr/>
        </p:nvSpPr>
        <p:spPr>
          <a:xfrm>
            <a:off x="2585880" y="5111640"/>
            <a:ext cx="3078360" cy="68436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0920" rIns="7092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Book Antiqua"/>
              </a:rPr>
              <a:t>Védőnői szolgálat 1 fő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Line 30"/>
          <p:cNvSpPr/>
          <p:nvPr/>
        </p:nvSpPr>
        <p:spPr>
          <a:xfrm>
            <a:off x="5905440" y="256068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Text Box 51"/>
          <p:cNvSpPr/>
          <p:nvPr/>
        </p:nvSpPr>
        <p:spPr>
          <a:xfrm>
            <a:off x="1908000" y="5856120"/>
            <a:ext cx="1429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0920" rIns="7092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Téglalap 30"/>
          <p:cNvSpPr/>
          <p:nvPr/>
        </p:nvSpPr>
        <p:spPr>
          <a:xfrm>
            <a:off x="6586560" y="5127480"/>
            <a:ext cx="1944720" cy="668520"/>
          </a:xfrm>
          <a:prstGeom prst="rect">
            <a:avLst/>
          </a:prstGeom>
          <a:solidFill>
            <a:srgbClr val="32ae5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Book Antiqua"/>
              </a:rPr>
              <a:t>Közösségi ház 1 fő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Rectangle 21"/>
          <p:cNvSpPr/>
          <p:nvPr/>
        </p:nvSpPr>
        <p:spPr>
          <a:xfrm>
            <a:off x="657360" y="6127920"/>
            <a:ext cx="3078000" cy="684000"/>
          </a:xfrm>
          <a:prstGeom prst="rect">
            <a:avLst/>
          </a:prstGeom>
          <a:solidFill>
            <a:srgbClr val="32ae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0920" rIns="7092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Book Antiqua"/>
              </a:rPr>
              <a:t>Háziorvosi szolgálat 2 fő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Egyenes összekötő 30"/>
          <p:cNvSpPr/>
          <p:nvPr/>
        </p:nvSpPr>
        <p:spPr>
          <a:xfrm>
            <a:off x="1871640" y="4270320"/>
            <a:ext cx="8821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Egyenes összekötő 32"/>
          <p:cNvSpPr/>
          <p:nvPr/>
        </p:nvSpPr>
        <p:spPr>
          <a:xfrm>
            <a:off x="10691640" y="4272120"/>
            <a:ext cx="1800" cy="7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Egyenes összekötő 34"/>
          <p:cNvSpPr/>
          <p:nvPr/>
        </p:nvSpPr>
        <p:spPr>
          <a:xfrm flipH="1">
            <a:off x="1870200" y="4272120"/>
            <a:ext cx="1440" cy="18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Egyenes összekötő 38"/>
          <p:cNvSpPr/>
          <p:nvPr/>
        </p:nvSpPr>
        <p:spPr>
          <a:xfrm flipH="1">
            <a:off x="3941280" y="4272120"/>
            <a:ext cx="1800" cy="92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Egyenes összekötő 64"/>
          <p:cNvSpPr/>
          <p:nvPr/>
        </p:nvSpPr>
        <p:spPr>
          <a:xfrm flipH="1">
            <a:off x="5870160" y="3654360"/>
            <a:ext cx="1800" cy="61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Egyenes összekötő 47"/>
          <p:cNvSpPr/>
          <p:nvPr/>
        </p:nvSpPr>
        <p:spPr>
          <a:xfrm flipV="1">
            <a:off x="3349800" y="3914280"/>
            <a:ext cx="2522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Egyenes összekötő 23"/>
          <p:cNvSpPr/>
          <p:nvPr/>
        </p:nvSpPr>
        <p:spPr>
          <a:xfrm flipH="1">
            <a:off x="7515360" y="4272120"/>
            <a:ext cx="1440" cy="86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Egyenes összekötő 21"/>
          <p:cNvSpPr/>
          <p:nvPr/>
        </p:nvSpPr>
        <p:spPr>
          <a:xfrm flipH="1">
            <a:off x="8801280" y="4272120"/>
            <a:ext cx="1440" cy="20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Lekerekített téglalap 26"/>
          <p:cNvSpPr/>
          <p:nvPr/>
        </p:nvSpPr>
        <p:spPr>
          <a:xfrm>
            <a:off x="299880" y="3164040"/>
            <a:ext cx="1320840" cy="752400"/>
          </a:xfrm>
          <a:prstGeom prst="roundRect">
            <a:avLst>
              <a:gd name="adj" fmla="val 16667"/>
            </a:avLst>
          </a:prstGeom>
          <a:solidFill>
            <a:srgbClr val="dc9f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Book Antiqua"/>
              </a:rPr>
              <a:t>B.keresztúr  Önkorm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Lekerekített téglalap 21"/>
          <p:cNvSpPr/>
          <p:nvPr/>
        </p:nvSpPr>
        <p:spPr>
          <a:xfrm>
            <a:off x="1874880" y="3164040"/>
            <a:ext cx="1185840" cy="7506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Book Antiqua"/>
              </a:rPr>
              <a:t>B.berény Önkor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Egyenes összekötő 39"/>
          <p:cNvSpPr/>
          <p:nvPr/>
        </p:nvSpPr>
        <p:spPr>
          <a:xfrm>
            <a:off x="960480" y="2430360"/>
            <a:ext cx="0" cy="73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Egyenes összekötő 41"/>
          <p:cNvSpPr/>
          <p:nvPr/>
        </p:nvSpPr>
        <p:spPr>
          <a:xfrm>
            <a:off x="2413080" y="2395440"/>
            <a:ext cx="0" cy="78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Ellipszis 26"/>
          <p:cNvSpPr/>
          <p:nvPr/>
        </p:nvSpPr>
        <p:spPr>
          <a:xfrm>
            <a:off x="9325080" y="4984920"/>
            <a:ext cx="2736720" cy="857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2060"/>
                </a:solidFill>
                <a:latin typeface="Book Antiqua"/>
              </a:rPr>
              <a:t>Önkormányzatok Társulása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Lekerekített téglalap 26"/>
          <p:cNvSpPr/>
          <p:nvPr/>
        </p:nvSpPr>
        <p:spPr>
          <a:xfrm>
            <a:off x="657360" y="1270080"/>
            <a:ext cx="3468600" cy="1143000"/>
          </a:xfrm>
          <a:prstGeom prst="roundRect">
            <a:avLst>
              <a:gd name="adj" fmla="val 16667"/>
            </a:avLst>
          </a:prstGeom>
          <a:solidFill>
            <a:srgbClr val="936a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Book Antiqua"/>
              </a:rPr>
              <a:t>Bk. Közös hivatal                  14 fő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Book Antiqua"/>
              </a:rPr>
              <a:t>B.berény kirendeltség           3 fő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Book Antiqua"/>
              </a:rPr>
              <a:t>B.máriafürdő kirendeltség  1 fő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Egyenes összekötő 33"/>
          <p:cNvSpPr/>
          <p:nvPr/>
        </p:nvSpPr>
        <p:spPr>
          <a:xfrm flipV="1">
            <a:off x="3347280" y="2438280"/>
            <a:ext cx="1800" cy="150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50400" y="2606760"/>
            <a:ext cx="10711080" cy="210024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Autofit/>
          </a:bodyPr>
          <a:p>
            <a:pPr indent="0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Candara"/>
              </a:rPr>
              <a:t>280 millió forintot fordítottunk működésre</a:t>
            </a:r>
            <a:br>
              <a:rPr sz="2500"/>
            </a:br>
            <a:r>
              <a:rPr b="0" lang="hu-HU" sz="2500" spc="-1" strike="noStrike">
                <a:solidFill>
                  <a:srgbClr val="000000"/>
                </a:solidFill>
                <a:latin typeface="Candara"/>
              </a:rPr>
              <a:t>200 millió forintot fordítottunk felújításra,fejlesztésre</a:t>
            </a:r>
            <a:br>
              <a:rPr sz="2500"/>
            </a:br>
            <a:r>
              <a:rPr b="0" lang="hu-HU" sz="2500" spc="-1" strike="noStrike">
                <a:solidFill>
                  <a:srgbClr val="000000"/>
                </a:solidFill>
                <a:latin typeface="Candara"/>
              </a:rPr>
              <a:t>- Dózsa Gy. utca, Hullám utca egyes részeinek felújítása</a:t>
            </a:r>
            <a:br>
              <a:rPr sz="2500"/>
            </a:br>
            <a:r>
              <a:rPr b="0" lang="hu-HU" sz="2500" spc="-1" strike="noStrike">
                <a:solidFill>
                  <a:srgbClr val="000000"/>
                </a:solidFill>
                <a:latin typeface="Candara"/>
              </a:rPr>
              <a:t>- Központi stand fejlesztése</a:t>
            </a:r>
            <a:br>
              <a:rPr sz="2500"/>
            </a:br>
            <a:r>
              <a:rPr b="0" lang="hu-HU" sz="2500" spc="-1" strike="noStrike">
                <a:solidFill>
                  <a:srgbClr val="000000"/>
                </a:solidFill>
                <a:latin typeface="Candara"/>
              </a:rPr>
              <a:t>- „Zagytéri” parti sétány építése</a:t>
            </a: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836360" y="963360"/>
            <a:ext cx="8844120" cy="64764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b">
            <a:normAutofit fontScale="88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Candara"/>
              </a:rPr>
              <a:t>2017. évi működési költségek, fejlesztések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28720" y="2279160"/>
            <a:ext cx="10709280" cy="264348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hu-HU" sz="6700" spc="-1" strike="noStrike">
                <a:solidFill>
                  <a:srgbClr val="ffff00"/>
                </a:solidFill>
                <a:latin typeface="Book Antiqua"/>
              </a:rPr>
              <a:t>2018.évi költségvetés</a:t>
            </a:r>
            <a:br>
              <a:rPr sz="6700"/>
            </a:br>
            <a:r>
              <a:rPr b="1" lang="hu-HU" sz="6700" spc="-1" strike="noStrike">
                <a:solidFill>
                  <a:srgbClr val="ffff00"/>
                </a:solidFill>
                <a:latin typeface="Book Antiqua"/>
              </a:rPr>
              <a:t>bevételei és kiadásai</a:t>
            </a:r>
            <a:endParaRPr b="0" lang="en-US" sz="67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710" name="Picture 6" descr="Balatonmariafurdo címer"/>
          <p:cNvPicPr/>
          <p:nvPr/>
        </p:nvPicPr>
        <p:blipFill>
          <a:blip r:embed="rId1"/>
          <a:stretch/>
        </p:blipFill>
        <p:spPr>
          <a:xfrm>
            <a:off x="1092240" y="603360"/>
            <a:ext cx="1868400" cy="1655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Book Antiqua"/>
              </a:rPr>
              <a:t>Balatonmáriafürdő Önkormányzatának </a:t>
            </a:r>
            <a:br>
              <a:rPr sz="3600"/>
            </a:br>
            <a:r>
              <a:rPr b="1" lang="hu-HU" sz="3600" spc="-1" strike="noStrike">
                <a:solidFill>
                  <a:srgbClr val="ffff00"/>
                </a:solidFill>
                <a:latin typeface="Book Antiqua"/>
              </a:rPr>
              <a:t>2018.évi  tervezett bevételei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712" name=""/>
          <p:cNvGraphicFramePr/>
          <p:nvPr/>
        </p:nvGraphicFramePr>
        <p:xfrm>
          <a:off x="1692360" y="1971720"/>
          <a:ext cx="8785080" cy="5210280"/>
        </p:xfrm>
        <a:graphic>
          <a:graphicData uri="http://schemas.openxmlformats.org/drawingml/2006/table">
            <a:tbl>
              <a:tblPr/>
              <a:tblGrid>
                <a:gridCol w="7493040"/>
                <a:gridCol w="1292040"/>
              </a:tblGrid>
              <a:tr h="37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ját bevétele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 5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pítményad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kad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genforgalmi ad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arűzési ad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yi adó pótlék, bírsá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épjárműad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Önkorm.működési költségvetési támogatás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 3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ámogatás értékű működési bevét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9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űködési célú pénz átvétel ÁHT-n kívülrő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űködési célú pénzmaradv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övetkező évi állami támogatás megelőlegez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űk.kölcsön visszatérül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űködési bevétel mindösszes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9 7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Book Antiqua"/>
              </a:rPr>
              <a:t>Balatonmáriafürdő Önkormányzának </a:t>
            </a:r>
            <a:br>
              <a:rPr sz="3600"/>
            </a:br>
            <a:r>
              <a:rPr b="1" lang="hu-HU" sz="3600" spc="-1" strike="noStrike">
                <a:solidFill>
                  <a:srgbClr val="ffff00"/>
                </a:solidFill>
                <a:latin typeface="Book Antiqua"/>
              </a:rPr>
              <a:t>2018.évi  tervezett bevételei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714" name=""/>
          <p:cNvGraphicFramePr/>
          <p:nvPr/>
        </p:nvGraphicFramePr>
        <p:xfrm>
          <a:off x="1979640" y="1898640"/>
          <a:ext cx="9217080" cy="4753080"/>
        </p:xfrm>
        <a:graphic>
          <a:graphicData uri="http://schemas.openxmlformats.org/drawingml/2006/table">
            <a:tbl>
              <a:tblPr/>
              <a:tblGrid>
                <a:gridCol w="7589880"/>
                <a:gridCol w="1627200"/>
              </a:tblGrid>
              <a:tr h="3952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ztalék, részvény értékesít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árgyi eszköz értékesít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Önkorm.felhalmozási költségvetési támogatás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ámogatás értékű felhalmozási bevét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2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lhalm.célú pénz átvétel ÁHT-n kívülrő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tel felvét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lhalmozási célú pénzmaradvá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9 8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cstárjegy visszatérül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lh.kölcsön visszatérül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lhalmozási bevétel mindössz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2 3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üggő, átfutó bevétele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VÉTEL MINDÖSSZES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2 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Book Antiqua"/>
              </a:rPr>
              <a:t>Balatonmáriafürdő Önkormányzatának </a:t>
            </a:r>
            <a:br>
              <a:rPr sz="3600"/>
            </a:br>
            <a:r>
              <a:rPr b="1" lang="hu-HU" sz="3600" spc="-1" strike="noStrike">
                <a:solidFill>
                  <a:srgbClr val="ffff00"/>
                </a:solidFill>
                <a:latin typeface="Book Antiqua"/>
              </a:rPr>
              <a:t>2018.évi  tervezett kiadásai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1187280" y="2187720"/>
          <a:ext cx="8713800" cy="4392360"/>
        </p:xfrm>
        <a:graphic>
          <a:graphicData uri="http://schemas.openxmlformats.org/drawingml/2006/table">
            <a:tbl>
              <a:tblPr/>
              <a:tblGrid>
                <a:gridCol w="7175520"/>
                <a:gridCol w="1538280"/>
              </a:tblGrid>
              <a:tr h="439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emélyi juttat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 0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kaadót terhelő járulé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4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logi kiadáso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1 9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ámogatás értékű működési kiad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 0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űk. célú pénz átadás ÁHT-n kívül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4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oc. ellátások, segélye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4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űködési célú tartalé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ölcsön nyújt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őző évi állami támogatás visszafizet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1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űködési kiadás mindösszes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3 6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Book Antiqua"/>
              </a:rPr>
              <a:t>Balatonmáriafürdő Önkormányzatának </a:t>
            </a:r>
            <a:br>
              <a:rPr sz="3600"/>
            </a:br>
            <a:r>
              <a:rPr b="1" lang="hu-HU" sz="3600" spc="-1" strike="noStrike">
                <a:solidFill>
                  <a:srgbClr val="ffff00"/>
                </a:solidFill>
                <a:latin typeface="Book Antiqua"/>
              </a:rPr>
              <a:t>2018.évi  tervezett kiadásai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718" name=""/>
          <p:cNvGraphicFramePr/>
          <p:nvPr/>
        </p:nvGraphicFramePr>
        <p:xfrm>
          <a:off x="1836720" y="2259000"/>
          <a:ext cx="8640720" cy="4465800"/>
        </p:xfrm>
        <a:graphic>
          <a:graphicData uri="http://schemas.openxmlformats.org/drawingml/2006/table">
            <a:tbl>
              <a:tblPr/>
              <a:tblGrid>
                <a:gridCol w="7115040"/>
                <a:gridCol w="1525680"/>
              </a:tblGrid>
              <a:tr h="37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lújít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 0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ruház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5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ámogatás értékű felhalmozási kiad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lhalm. célú pénz átadás ÁHT-n kívül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tel felvét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énzügyi részesedése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lh.kölcsön nyújt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cstárjegy vásárl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lhalmozási célú tartalé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 7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lhalmozási kiadás mindössz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8 4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üggő, átfutó kiadáso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ADÁS MINDÖSSZES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2 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elepülésüzemeltetés</dc:creator>
  <dc:description/>
  <dc:language>en-US</dc:language>
  <cp:lastModifiedBy>user</cp:lastModifiedBy>
  <dcterms:modified xsi:type="dcterms:W3CDTF">2018-02-21T09:09:46Z</dcterms:modified>
  <cp:revision>879</cp:revision>
  <dc:subject/>
  <dc:title>PowerPoint Presentation</dc:title>
</cp:coreProperties>
</file>