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png" ContentType="image/png"/>
  <Override PartName="/ppt/media/image10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</p:sldIdLst>
  <p:sldSz cx="12599988" cy="7253288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dt" idx="4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sldImg"/>
          </p:nvPr>
        </p:nvSpPr>
        <p:spPr>
          <a:xfrm>
            <a:off x="166680" y="744120"/>
            <a:ext cx="6464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ftr" idx="4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 type="sldNum" idx="45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5D93-DF05-43BC-BA10-0E821CF4F1A4}" type="slidenum"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66680" y="744480"/>
            <a:ext cx="6464160" cy="372276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Dia számának helye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CB24-3155-411E-A3D6-71C5EE573E77}" type="slidenum"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66680" y="744480"/>
            <a:ext cx="6464160" cy="372276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Dia számának helye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4048-E678-48C4-A92D-2DEDAA4149F1}" type="slidenum"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66680" y="744480"/>
            <a:ext cx="6464160" cy="372276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Dia számának helye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34D7-0D41-4B6A-AA7B-8A144425DAFC}" type="slidenum"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AF87-991E-4CC0-9055-B4F1A8A13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7FAE-8F6C-4830-AD96-751040D6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485A18-7A05-42F4-92CB-A1530B37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47185C-08D2-43BB-A71F-7768B1CB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30000" y="357120"/>
            <a:ext cx="113410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08FDF4-0DDD-4D8D-AA29-2C052B72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407B4-7C8B-4DD6-B18C-241BB7D0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81642E-860A-4255-9E4B-421BB933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928F84-2FAE-4FA7-A87A-C9EC257B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BF9C4-6EBA-4245-974C-DAB2BC31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1B756D-25D6-41EF-B54D-E91DCC45D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5336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10504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120132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465336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810504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9339B-27DF-40D0-9FE8-BBAFAE2DA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C912C8-7D8F-4F7D-B062-3E3BF25E8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2723-2C3E-4CD2-81D2-9CD4DE61A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7C914-53A0-44BE-863E-7E7FB25A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993857-1760-4473-BDF1-411D146D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096722-F7B0-4662-8B6C-8E2088D8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680DB-9704-4F42-95D1-2C1B08C1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30000" y="357120"/>
            <a:ext cx="113410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F2ECED-C620-4CDC-B824-EF3FD290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C44CC-0B60-4AE6-A4D5-D52BA216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C8AEF-A626-4A62-B794-5F81DDAA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7C3174-DA3B-4F58-9AB0-DEE09606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C3ED7C-BBF4-4D00-B717-2A00B0B6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318B4C-C2F9-43FD-B71D-401DB6D30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336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10504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20132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5336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10504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0843-83D0-4B31-8317-D4BD91433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5336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10504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120132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465336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810504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534665-7A59-456B-AD87-642C3A1A1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2AFA3-AE81-4367-B02C-421E911E9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35239-1A15-4DA8-9785-DC97D8DB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0DD0F-97B0-4E9E-93A9-5D6BA1A7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A3D33-317D-4000-B1F5-91560018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21E4B-5864-411D-92A5-BC5084BC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630000" y="357120"/>
            <a:ext cx="113410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FEA98-BAB6-4D81-BD19-3271401B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FF318-DA86-45A9-84CD-D5BF2B08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09D1D-2060-4E02-938C-5922BEFA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EE021-344B-4640-A506-55258D4F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541D-8160-4123-BBCB-71C61F52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14482-5A11-4E57-BE07-262A9D3F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3800E-1CE4-47F0-B7A0-F708B88EF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5336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10504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120132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465336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810504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82194-583D-4D5A-A967-F35590CEA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EAAF1E-2310-4CA2-BDAF-6A24ABCE6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C9468F-0F6D-4D96-9B8E-B094AFF8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F0995F-DEB1-458D-A4BC-263779DE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AA0768-2BE2-4720-AFBB-32A8AC10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5AA86F-3D80-4B0F-A754-059758AC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30000" y="357120"/>
            <a:ext cx="113410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4D2F94-1CCC-4048-8F05-13071AC8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A34E26-D083-4CE5-9412-ADE441D0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3B39-CEDD-4F28-907C-E4D2265E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638C8-C09D-4029-9152-35C2F1FC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9F5FA2-4F93-4527-B009-75680284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8E7A44-069F-4322-B2C8-FC430059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B51BBF-4DF1-4FCC-9621-59B7B2D30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5336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810504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120132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65336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810504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64D5D8-4E0C-4AAF-9267-4358017B8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6F9691-615A-44D2-A2BC-42297AF97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A478E5-545D-48C9-9347-E68DEB6E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878436-4629-4367-8BDA-D6A9FB64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EC414E-B622-4F09-8C71-C642FAC7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9914B1-7D97-46D1-88BB-FD89EC3A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48B8-5F4D-47EC-B378-63C9BA1F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630000" y="357120"/>
            <a:ext cx="113410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020441-72FB-4366-83E9-4F733ED0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BFBB3A-FA21-496B-8CAF-0F22C2DC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20B82D-07A1-4146-B014-9B4D4772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A47F4E-E518-41A7-8FBB-E2223F9C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DDDF2D-0D83-4B89-95BB-1936E484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B2CD3F-7709-4CAA-B054-E0300941F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5336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810504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120132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465336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810504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2C03DE-AD13-42A2-87F4-5C1C189F8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D30508-80DD-4C8A-AF48-3119BC645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4D4A4C-83D2-4805-800A-248F7301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728CE8-420F-416C-899C-2A23FB3D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6E4F-B2E7-4DD3-ADB1-A43F3BB5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624F1A-F6C2-4969-B646-FDB7C3F2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501E24-584C-4050-AC8B-01B32135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630000" y="357120"/>
            <a:ext cx="113410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CE1983-DA4B-42C7-949D-F4C3206F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28DF26-5EFB-4B8F-9472-3235A3B7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7298E3-F5DB-4F0C-9D20-2DF386A6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D16203-C4D6-4E4F-94EC-9B48CDA7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699440-5226-4DB0-A8E9-01C46825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9ABB36-F7A6-48BC-8203-3C96E8ED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5336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810504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120132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465336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810504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A09583-ECFE-459D-BB7E-BAA6E9198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96C4-AAAF-4EA0-8B6A-58C8AC8A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30000" y="357120"/>
            <a:ext cx="113410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B1A9-1174-4655-A5FB-6DA85636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6D58-4805-4B75-AA1F-839A14DF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6C2C-B498-4534-B0BA-50D4BD70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F7A3-5209-4077-B537-44B81244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404C-E2DA-4642-85F4-AC4F7B5F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3201-96F4-4CC4-8C43-DA11A613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1862-A041-4D3A-B497-9F3DDE87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336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10504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20132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65336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10504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CB16-3FFF-44DC-B885-A711BF657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707F7-34B8-420A-AFE4-561E53ADA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24929-075C-4171-BA3A-8E62E5E9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58553-A1C8-4B83-8C09-E1DBA801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E7311-4F45-439E-8E89-FB971E04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1D8B4-F111-476C-9E6A-1B838761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99DE-B484-4B3B-BE72-4CACEFC5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630000" y="357120"/>
            <a:ext cx="113410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8BD19-C0E0-4820-9829-2261B6B2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3F40C-B382-4AB6-99F7-894C9D48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2FC77-20D0-460C-9962-392290A4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241C4-053F-4C48-B96D-E341719B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FEE97-F403-4122-A455-7D009B12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06E8A-FAC6-4F84-8476-E354528C1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336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10504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20132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65336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810504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F04A8-8494-4F5E-9CC0-9D8DA9DA4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DD64B-F301-437D-B601-1B4F71086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7FE65-4A69-4E6A-B168-D767115C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60AE3-4688-4422-A875-AA1237B1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711D-2A93-4825-AA0A-F387A198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7F89E-DB1D-44FF-9687-0C7BEDF8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8A4EC-D32B-47E7-9AF0-91F136B7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30000" y="357120"/>
            <a:ext cx="113410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C2D49-8B05-494F-B0DD-1FEF9ED0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A17B7-C82F-4F6F-96D6-2EE04542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50A4E-9101-47F7-A084-836416A5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88167-5924-4880-BCC7-4EBC9C32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1F200-0045-430E-9C93-75959D9F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7BB3D-FDF5-4345-A661-6CD2B091B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336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10504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20132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465336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810504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CBBFC-DDEE-438F-A1AF-57E70896D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8C041-20C6-4340-923A-DF5525FEC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7B02-2A1A-4369-89DC-76C6F6EB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12FAB-022D-4000-A9F5-1DBDBCCF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48FE9-3C3E-4F53-985E-0A6EFF9B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ED071-7E61-4CEA-BC71-2239400F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FEF8A-B860-417D-BD8D-6A064013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630000" y="357120"/>
            <a:ext cx="113410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EC3B3-95D6-4B28-8117-0277D930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A3C60-8C7C-4C67-844E-2DED57FA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757CA-DE56-4EAF-99D3-4BE79363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6FAA4-AF35-4E30-8448-D6C46104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1F393-64BC-4012-956C-D966EF9E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8B303-5F42-499B-A45B-FB11E6E5A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30000" y="357120"/>
            <a:ext cx="113410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F898-FB3C-470C-AEC6-5721133B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5336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10504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120132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465336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810504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86AEC-F59F-4EC8-B15B-3EAC2416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B1843-9409-4FA1-9DB2-66EF7F3E9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6943B-77D5-4AE4-8E1F-9CC74DDC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94BB9-FDAA-4B96-815D-67EF4A7F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72D78-BFD8-4DD2-A735-6244B83A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42892-5A4E-4750-9927-ECA1B211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30000" y="357120"/>
            <a:ext cx="113410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30E16-5E09-4749-951F-594AC738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94A52-3EDF-4AF6-A97E-E00C08B1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8D907-7FB4-467B-9BB4-20ED4582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EA110-798C-4FEE-A1D1-D48B2A83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5D3B-C0BB-480A-8E66-1DB9E12A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309CF-C084-4BCC-9281-8F4824F1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D5293-293B-41C5-94A8-1E812C646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5336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10504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0132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65336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10504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3690E-867F-410F-8A3C-0008AE65A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FF264-797C-4CF1-B1E5-1F7C0B43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B2730-0957-4699-A648-0087B4D2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5C892-BFCF-4539-8D2F-9873BACD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F803D-DCD1-4E73-B44B-8361962E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63876-7592-4E2D-8E30-C70B4441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630000" y="357120"/>
            <a:ext cx="113410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ADCE0-056E-48F8-A352-0F17A9DA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87F86-0021-4E19-91B9-A27AA4E6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373B-E219-412C-944D-F6278499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A7B87-F0C6-4E53-B54E-13D7026F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FDC4C-B830-4508-A404-2BDBCF1D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59211-4214-4A4F-A9CA-1CED68F0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F1343-3A64-4A36-ADB7-A1648FFE0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5336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810504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20132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465336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810504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22C48-37E3-4445-A9A6-3778E4BFD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16887-5A58-4FF5-92AC-C93080C36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393F2-5702-4464-979E-332644FE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8D075-5F0B-4B7E-B798-D9EDE7E1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FBD8D-6998-424D-BE9B-AA1CAAFD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4CAA3-C3E1-4AAA-A147-1F8619C4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D1BB-1670-4AA6-8B7B-F4C3DCE7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630000" y="357120"/>
            <a:ext cx="113410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C45D2-CE22-4860-8585-28B9FAF4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77B95-0639-49DB-A3DF-E6A9796C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58D8D-ACB8-4265-B8D1-039C5391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DB29F-37B2-402A-8138-7622E9F8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1201320" y="4736520"/>
            <a:ext cx="102092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AD80B-CB42-4C35-95CF-9AC64C8B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432840" y="28303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20132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432840" y="4736520"/>
            <a:ext cx="498204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AB8C5-9A78-43E2-85FC-8D6E9D747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5336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105040" y="28303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120132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65336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105040" y="4736520"/>
            <a:ext cx="3287160" cy="174060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E0502-C66D-482C-9CE1-95D8E1DB7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A5D68-04AF-475A-B60A-073F6DC1D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86F1D-C8AD-4D04-8A8B-B4E34E8B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CBD12-CD69-485B-A339-F93D756C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314280" y="241200"/>
            <a:ext cx="11984040" cy="261324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91960" y="1776240"/>
            <a:ext cx="12022200" cy="1406520"/>
            <a:chOff x="291960" y="1776240"/>
            <a:chExt cx="12022200" cy="1406520"/>
          </a:xfrm>
        </p:grpSpPr>
        <p:sp>
          <p:nvSpPr>
            <p:cNvPr id="2" name="Freeform 14"/>
            <p:cNvSpPr/>
            <p:nvPr/>
          </p:nvSpPr>
          <p:spPr>
            <a:xfrm>
              <a:off x="8334720" y="1929600"/>
              <a:ext cx="3963960" cy="75528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3610080" y="1793880"/>
              <a:ext cx="7641360" cy="8992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3898440" y="1806840"/>
              <a:ext cx="7535880" cy="8190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7731000" y="1792440"/>
              <a:ext cx="4559040" cy="68904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91960" y="1776240"/>
              <a:ext cx="12022200" cy="140652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711648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26640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500440" y="6611760"/>
            <a:ext cx="1600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B1D4-7585-478E-A8DF-F9406FB41694}" type="slidenum">
              <a:rPr b="0" lang="hu-HU" sz="12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 fontScale="93000"/>
          </a:bodyPr>
          <a:p>
            <a:pPr marL="315720" indent="-31572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1" marL="664200" indent="-31536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2" marL="98604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3" marL="1318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4" marL="1687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5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6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ounded Rectangle 13"/>
          <p:cNvSpPr/>
          <p:nvPr/>
        </p:nvSpPr>
        <p:spPr>
          <a:xfrm>
            <a:off x="314280" y="241200"/>
            <a:ext cx="11984040" cy="501192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Freeform 14"/>
          <p:cNvSpPr/>
          <p:nvPr/>
        </p:nvSpPr>
        <p:spPr>
          <a:xfrm>
            <a:off x="8334360" y="4446720"/>
            <a:ext cx="3963960" cy="7556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520" bIns="5652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Freeform 18"/>
          <p:cNvSpPr/>
          <p:nvPr/>
        </p:nvSpPr>
        <p:spPr>
          <a:xfrm>
            <a:off x="3610080" y="4311720"/>
            <a:ext cx="7640640" cy="89856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520" bIns="5652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Freeform 22"/>
          <p:cNvSpPr/>
          <p:nvPr/>
        </p:nvSpPr>
        <p:spPr>
          <a:xfrm>
            <a:off x="3898800" y="4324320"/>
            <a:ext cx="7534440" cy="81936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113400" rIns="113400" tIns="56520" bIns="5652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Freeform 26"/>
          <p:cNvSpPr/>
          <p:nvPr/>
        </p:nvSpPr>
        <p:spPr>
          <a:xfrm>
            <a:off x="7731000" y="4309920"/>
            <a:ext cx="4557960" cy="68904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113400" rIns="113400" tIns="56520" bIns="5652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Freeform 10"/>
          <p:cNvSpPr/>
          <p:nvPr/>
        </p:nvSpPr>
        <p:spPr>
          <a:xfrm>
            <a:off x="291960" y="4294080"/>
            <a:ext cx="12022200" cy="140652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520" bIns="5652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 fontScale="93000"/>
          </a:bodyPr>
          <a:p>
            <a:pPr marL="315720" indent="-31572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1" marL="664200" indent="-31536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2" marL="98604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3" marL="1318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4" marL="1687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5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6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8"/>
          </p:nvPr>
        </p:nvSpPr>
        <p:spPr>
          <a:xfrm>
            <a:off x="711648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29"/>
          </p:nvPr>
        </p:nvSpPr>
        <p:spPr>
          <a:xfrm>
            <a:off x="26640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0"/>
          </p:nvPr>
        </p:nvSpPr>
        <p:spPr>
          <a:xfrm>
            <a:off x="5500440" y="6611760"/>
            <a:ext cx="1600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D839-99E6-4636-91AC-C8DEF564AA22}" type="slidenum">
              <a:rPr b="0" lang="hu-HU" sz="12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ounded Rectangle 11"/>
          <p:cNvSpPr/>
          <p:nvPr/>
        </p:nvSpPr>
        <p:spPr>
          <a:xfrm>
            <a:off x="314280" y="241200"/>
            <a:ext cx="11984040" cy="15098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9" name="Group 5"/>
          <p:cNvGrpSpPr/>
          <p:nvPr/>
        </p:nvGrpSpPr>
        <p:grpSpPr>
          <a:xfrm>
            <a:off x="291960" y="755640"/>
            <a:ext cx="12022200" cy="1406520"/>
            <a:chOff x="291960" y="755640"/>
            <a:chExt cx="12022200" cy="1406520"/>
          </a:xfrm>
        </p:grpSpPr>
        <p:sp>
          <p:nvSpPr>
            <p:cNvPr id="480" name="Freeform 14"/>
            <p:cNvSpPr/>
            <p:nvPr/>
          </p:nvSpPr>
          <p:spPr>
            <a:xfrm>
              <a:off x="8334360" y="909360"/>
              <a:ext cx="3963960" cy="7542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1" name="Freeform 18"/>
            <p:cNvSpPr/>
            <p:nvPr/>
          </p:nvSpPr>
          <p:spPr>
            <a:xfrm>
              <a:off x="3609720" y="772920"/>
              <a:ext cx="7640640" cy="9000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2" name="Freeform 22"/>
            <p:cNvSpPr/>
            <p:nvPr/>
          </p:nvSpPr>
          <p:spPr>
            <a:xfrm>
              <a:off x="3898800" y="785520"/>
              <a:ext cx="7535880" cy="8190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" name="Freeform 26"/>
            <p:cNvSpPr/>
            <p:nvPr/>
          </p:nvSpPr>
          <p:spPr>
            <a:xfrm>
              <a:off x="7731000" y="771480"/>
              <a:ext cx="4559400" cy="68904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" name="Freeform 10"/>
            <p:cNvSpPr/>
            <p:nvPr/>
          </p:nvSpPr>
          <p:spPr>
            <a:xfrm>
              <a:off x="291960" y="755640"/>
              <a:ext cx="12022200" cy="140652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 fontScale="93000"/>
          </a:bodyPr>
          <a:p>
            <a:pPr marL="315720" indent="-31572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1" marL="664200" indent="-31536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2" marL="98604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3" marL="1318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4" marL="1687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5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6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1"/>
          </p:nvPr>
        </p:nvSpPr>
        <p:spPr>
          <a:xfrm>
            <a:off x="711648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2"/>
          </p:nvPr>
        </p:nvSpPr>
        <p:spPr>
          <a:xfrm>
            <a:off x="26640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3"/>
          </p:nvPr>
        </p:nvSpPr>
        <p:spPr>
          <a:xfrm>
            <a:off x="5500440" y="6611760"/>
            <a:ext cx="1600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B36D-70A4-46B2-88F7-A3D8841952D4}" type="slidenum">
              <a:rPr b="0" lang="hu-HU" sz="12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ounded Rectangle 14"/>
          <p:cNvSpPr/>
          <p:nvPr/>
        </p:nvSpPr>
        <p:spPr>
          <a:xfrm>
            <a:off x="314280" y="241200"/>
            <a:ext cx="11984040" cy="15098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7" name="Group 23"/>
          <p:cNvGrpSpPr/>
          <p:nvPr/>
        </p:nvGrpSpPr>
        <p:grpSpPr>
          <a:xfrm>
            <a:off x="291960" y="755640"/>
            <a:ext cx="12022200" cy="1407960"/>
            <a:chOff x="291960" y="755640"/>
            <a:chExt cx="12022200" cy="1407960"/>
          </a:xfrm>
        </p:grpSpPr>
        <p:sp>
          <p:nvSpPr>
            <p:cNvPr id="528" name="Freeform 14"/>
            <p:cNvSpPr/>
            <p:nvPr/>
          </p:nvSpPr>
          <p:spPr>
            <a:xfrm>
              <a:off x="8345520" y="909360"/>
              <a:ext cx="3968640" cy="7556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" name="Freeform 18"/>
            <p:cNvSpPr/>
            <p:nvPr/>
          </p:nvSpPr>
          <p:spPr>
            <a:xfrm>
              <a:off x="3614400" y="772920"/>
              <a:ext cx="7650360" cy="9000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" name="Freeform 22"/>
            <p:cNvSpPr/>
            <p:nvPr/>
          </p:nvSpPr>
          <p:spPr>
            <a:xfrm>
              <a:off x="3903480" y="785520"/>
              <a:ext cx="7545600" cy="8208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" name="Freeform 26"/>
            <p:cNvSpPr/>
            <p:nvPr/>
          </p:nvSpPr>
          <p:spPr>
            <a:xfrm>
              <a:off x="7740720" y="771480"/>
              <a:ext cx="4564080" cy="6904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" name="Freeform 28"/>
            <p:cNvSpPr/>
            <p:nvPr/>
          </p:nvSpPr>
          <p:spPr>
            <a:xfrm>
              <a:off x="291960" y="755640"/>
              <a:ext cx="12022200" cy="14079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 fontScale="93000"/>
          </a:bodyPr>
          <a:p>
            <a:pPr marL="315720" indent="-31572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1" marL="664200" indent="-31536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2" marL="98604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3" marL="1318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4" marL="1687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5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6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4"/>
          </p:nvPr>
        </p:nvSpPr>
        <p:spPr>
          <a:xfrm>
            <a:off x="711648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35"/>
          </p:nvPr>
        </p:nvSpPr>
        <p:spPr>
          <a:xfrm>
            <a:off x="26640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36"/>
          </p:nvPr>
        </p:nvSpPr>
        <p:spPr>
          <a:xfrm>
            <a:off x="5500440" y="6611760"/>
            <a:ext cx="1600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411A-C6E4-4D43-8B9B-9D36162FBD55}" type="slidenum">
              <a:rPr b="0" lang="hu-HU" sz="12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ounded Rectangle 14"/>
          <p:cNvSpPr/>
          <p:nvPr/>
        </p:nvSpPr>
        <p:spPr>
          <a:xfrm>
            <a:off x="314280" y="241200"/>
            <a:ext cx="11984040" cy="63849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5" name="Group 8"/>
          <p:cNvGrpSpPr/>
          <p:nvPr/>
        </p:nvGrpSpPr>
        <p:grpSpPr>
          <a:xfrm>
            <a:off x="291960" y="5664240"/>
            <a:ext cx="12022200" cy="1407960"/>
            <a:chOff x="291960" y="5664240"/>
            <a:chExt cx="12022200" cy="1407960"/>
          </a:xfrm>
        </p:grpSpPr>
        <p:sp>
          <p:nvSpPr>
            <p:cNvPr id="576" name="Freeform 14"/>
            <p:cNvSpPr/>
            <p:nvPr/>
          </p:nvSpPr>
          <p:spPr>
            <a:xfrm>
              <a:off x="8345520" y="5817960"/>
              <a:ext cx="3968640" cy="7556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7" name="Freeform 18"/>
            <p:cNvSpPr/>
            <p:nvPr/>
          </p:nvSpPr>
          <p:spPr>
            <a:xfrm>
              <a:off x="3614400" y="5681520"/>
              <a:ext cx="7650360" cy="9000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Freeform 22"/>
            <p:cNvSpPr/>
            <p:nvPr/>
          </p:nvSpPr>
          <p:spPr>
            <a:xfrm>
              <a:off x="3903480" y="5694120"/>
              <a:ext cx="7545600" cy="8208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Freeform 26"/>
            <p:cNvSpPr/>
            <p:nvPr/>
          </p:nvSpPr>
          <p:spPr>
            <a:xfrm>
              <a:off x="7740720" y="5680080"/>
              <a:ext cx="4564080" cy="6904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0" name="Freeform 10"/>
            <p:cNvSpPr/>
            <p:nvPr/>
          </p:nvSpPr>
          <p:spPr>
            <a:xfrm>
              <a:off x="291960" y="5664240"/>
              <a:ext cx="12022200" cy="14079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 fontScale="93000"/>
          </a:bodyPr>
          <a:p>
            <a:pPr marL="315720" indent="-31572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1" marL="664200" indent="-31536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2" marL="98604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3" marL="1318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4" marL="1687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5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6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37"/>
          </p:nvPr>
        </p:nvSpPr>
        <p:spPr>
          <a:xfrm>
            <a:off x="711648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38"/>
          </p:nvPr>
        </p:nvSpPr>
        <p:spPr>
          <a:xfrm>
            <a:off x="26640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39"/>
          </p:nvPr>
        </p:nvSpPr>
        <p:spPr>
          <a:xfrm>
            <a:off x="5500440" y="6611760"/>
            <a:ext cx="1600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2F72-74B2-44FD-8EF6-2F292B5DE1CB}" type="slidenum">
              <a:rPr b="0" lang="hu-HU" sz="12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ounded Rectangle 20"/>
          <p:cNvSpPr/>
          <p:nvPr/>
        </p:nvSpPr>
        <p:spPr>
          <a:xfrm>
            <a:off x="314280" y="241200"/>
            <a:ext cx="11984040" cy="15098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3" name="Group 14"/>
          <p:cNvGrpSpPr/>
          <p:nvPr/>
        </p:nvGrpSpPr>
        <p:grpSpPr>
          <a:xfrm>
            <a:off x="291960" y="755640"/>
            <a:ext cx="12022200" cy="1407960"/>
            <a:chOff x="291960" y="755640"/>
            <a:chExt cx="12022200" cy="1407960"/>
          </a:xfrm>
        </p:grpSpPr>
        <p:sp>
          <p:nvSpPr>
            <p:cNvPr id="624" name="Freeform 14"/>
            <p:cNvSpPr/>
            <p:nvPr/>
          </p:nvSpPr>
          <p:spPr>
            <a:xfrm>
              <a:off x="8345520" y="909360"/>
              <a:ext cx="3968640" cy="7556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5" name="Freeform 18"/>
            <p:cNvSpPr/>
            <p:nvPr/>
          </p:nvSpPr>
          <p:spPr>
            <a:xfrm>
              <a:off x="3614400" y="772920"/>
              <a:ext cx="7650360" cy="9000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6" name="Freeform 22"/>
            <p:cNvSpPr/>
            <p:nvPr/>
          </p:nvSpPr>
          <p:spPr>
            <a:xfrm>
              <a:off x="3903480" y="785520"/>
              <a:ext cx="7545600" cy="8208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7" name="Freeform 26"/>
            <p:cNvSpPr/>
            <p:nvPr/>
          </p:nvSpPr>
          <p:spPr>
            <a:xfrm>
              <a:off x="7740720" y="771480"/>
              <a:ext cx="4564080" cy="6904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8" name="Freeform 19"/>
            <p:cNvSpPr/>
            <p:nvPr/>
          </p:nvSpPr>
          <p:spPr>
            <a:xfrm>
              <a:off x="291960" y="755640"/>
              <a:ext cx="12022200" cy="14079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 fontScale="93000"/>
          </a:bodyPr>
          <a:p>
            <a:pPr marL="315720" indent="-31572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1" marL="664200" indent="-31536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2" marL="98604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3" marL="1318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4" marL="1687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5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6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40"/>
          </p:nvPr>
        </p:nvSpPr>
        <p:spPr>
          <a:xfrm>
            <a:off x="711648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ftr" idx="41"/>
          </p:nvPr>
        </p:nvSpPr>
        <p:spPr>
          <a:xfrm>
            <a:off x="26640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 type="sldNum" idx="42"/>
          </p:nvPr>
        </p:nvSpPr>
        <p:spPr>
          <a:xfrm>
            <a:off x="5500440" y="6611760"/>
            <a:ext cx="1600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B870-0A79-4C47-B58A-53CF87062FD1}" type="slidenum">
              <a:rPr b="0" lang="hu-HU" sz="12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3"/>
          <p:cNvSpPr/>
          <p:nvPr/>
        </p:nvSpPr>
        <p:spPr>
          <a:xfrm>
            <a:off x="314280" y="241200"/>
            <a:ext cx="11984040" cy="261324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Group 15"/>
          <p:cNvGrpSpPr/>
          <p:nvPr/>
        </p:nvGrpSpPr>
        <p:grpSpPr>
          <a:xfrm>
            <a:off x="291960" y="1776240"/>
            <a:ext cx="12022200" cy="1406520"/>
            <a:chOff x="291960" y="1776240"/>
            <a:chExt cx="12022200" cy="1406520"/>
          </a:xfrm>
        </p:grpSpPr>
        <p:sp>
          <p:nvSpPr>
            <p:cNvPr id="50" name="Freeform 14"/>
            <p:cNvSpPr/>
            <p:nvPr/>
          </p:nvSpPr>
          <p:spPr>
            <a:xfrm>
              <a:off x="8334360" y="1929960"/>
              <a:ext cx="3963960" cy="7542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3609720" y="1793520"/>
              <a:ext cx="7640640" cy="9000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3898800" y="1806120"/>
              <a:ext cx="7535880" cy="8190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7731000" y="1792080"/>
              <a:ext cx="4559400" cy="68904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91960" y="1776240"/>
              <a:ext cx="12022200" cy="140652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711648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26640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5500440" y="6611760"/>
            <a:ext cx="1600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202B-070C-40EB-B9BF-B3BDBFBFC195}" type="slidenum">
              <a:rPr b="0" lang="hu-HU" sz="12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 fontScale="93000"/>
          </a:bodyPr>
          <a:p>
            <a:pPr marL="315720" indent="-31572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1" marL="664200" indent="-31536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2" marL="98604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3" marL="1318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4" marL="1687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5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6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5"/>
          <p:cNvSpPr/>
          <p:nvPr/>
        </p:nvSpPr>
        <p:spPr>
          <a:xfrm>
            <a:off x="314280" y="241200"/>
            <a:ext cx="11984040" cy="63849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7" name="Group 9"/>
          <p:cNvGrpSpPr/>
          <p:nvPr/>
        </p:nvGrpSpPr>
        <p:grpSpPr>
          <a:xfrm>
            <a:off x="291960" y="5664240"/>
            <a:ext cx="12022200" cy="1407960"/>
            <a:chOff x="291960" y="5664240"/>
            <a:chExt cx="12022200" cy="1407960"/>
          </a:xfrm>
        </p:grpSpPr>
        <p:sp>
          <p:nvSpPr>
            <p:cNvPr id="98" name="Freeform 14"/>
            <p:cNvSpPr/>
            <p:nvPr/>
          </p:nvSpPr>
          <p:spPr>
            <a:xfrm>
              <a:off x="8344800" y="5817600"/>
              <a:ext cx="3969360" cy="7560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18"/>
            <p:cNvSpPr/>
            <p:nvPr/>
          </p:nvSpPr>
          <p:spPr>
            <a:xfrm>
              <a:off x="3614400" y="5681880"/>
              <a:ext cx="7651080" cy="9000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3903120" y="5694840"/>
              <a:ext cx="7545600" cy="819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Freeform 26"/>
            <p:cNvSpPr/>
            <p:nvPr/>
          </p:nvSpPr>
          <p:spPr>
            <a:xfrm>
              <a:off x="7740720" y="5680440"/>
              <a:ext cx="4564800" cy="6897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Freeform 10"/>
            <p:cNvSpPr/>
            <p:nvPr/>
          </p:nvSpPr>
          <p:spPr>
            <a:xfrm>
              <a:off x="291960" y="5664240"/>
              <a:ext cx="12022200" cy="14079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 fontScale="93000"/>
          </a:bodyPr>
          <a:p>
            <a:pPr marL="315720" indent="-31572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1" marL="664200" indent="-31536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2" marL="98604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3" marL="1318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4" marL="1687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5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6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711648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26640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5500440" y="6611760"/>
            <a:ext cx="1600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FB05-C308-49FD-9597-BE5F6C73F5A2}" type="slidenum">
              <a:rPr b="0" lang="hu-HU" sz="12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ounded Rectangle 13"/>
          <p:cNvSpPr/>
          <p:nvPr/>
        </p:nvSpPr>
        <p:spPr>
          <a:xfrm>
            <a:off x="314280" y="241200"/>
            <a:ext cx="11984040" cy="501192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Freeform 14"/>
          <p:cNvSpPr/>
          <p:nvPr/>
        </p:nvSpPr>
        <p:spPr>
          <a:xfrm>
            <a:off x="8334360" y="4446720"/>
            <a:ext cx="3963960" cy="7556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520" bIns="5652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Freeform 18"/>
          <p:cNvSpPr/>
          <p:nvPr/>
        </p:nvSpPr>
        <p:spPr>
          <a:xfrm>
            <a:off x="3610080" y="4311720"/>
            <a:ext cx="7640640" cy="89856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520" bIns="5652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Freeform 22"/>
          <p:cNvSpPr/>
          <p:nvPr/>
        </p:nvSpPr>
        <p:spPr>
          <a:xfrm>
            <a:off x="3898800" y="4324320"/>
            <a:ext cx="7534440" cy="81936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113400" rIns="113400" tIns="56520" bIns="5652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Freeform 26"/>
          <p:cNvSpPr/>
          <p:nvPr/>
        </p:nvSpPr>
        <p:spPr>
          <a:xfrm>
            <a:off x="7731000" y="4309920"/>
            <a:ext cx="4557960" cy="68904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113400" rIns="113400" tIns="56520" bIns="5652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10"/>
          <p:cNvSpPr/>
          <p:nvPr/>
        </p:nvSpPr>
        <p:spPr>
          <a:xfrm>
            <a:off x="291960" y="4294080"/>
            <a:ext cx="12022200" cy="140652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520" bIns="5652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 fontScale="93000"/>
          </a:bodyPr>
          <a:p>
            <a:pPr marL="315720" indent="-31572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1" marL="664200" indent="-31536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2" marL="98604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3" marL="1318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4" marL="1687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5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6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711648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40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5500440" y="6611760"/>
            <a:ext cx="1600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48A0-2CB6-49E0-B290-C393BDF618EA}" type="slidenum">
              <a:rPr b="0" lang="hu-HU" sz="12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1"/>
          <p:cNvSpPr/>
          <p:nvPr/>
        </p:nvSpPr>
        <p:spPr>
          <a:xfrm>
            <a:off x="314280" y="241200"/>
            <a:ext cx="11984040" cy="15098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" name="Group 5"/>
          <p:cNvGrpSpPr/>
          <p:nvPr/>
        </p:nvGrpSpPr>
        <p:grpSpPr>
          <a:xfrm>
            <a:off x="291960" y="755640"/>
            <a:ext cx="12022200" cy="1406520"/>
            <a:chOff x="291960" y="755640"/>
            <a:chExt cx="12022200" cy="1406520"/>
          </a:xfrm>
        </p:grpSpPr>
        <p:sp>
          <p:nvSpPr>
            <p:cNvPr id="193" name="Freeform 14"/>
            <p:cNvSpPr/>
            <p:nvPr/>
          </p:nvSpPr>
          <p:spPr>
            <a:xfrm>
              <a:off x="8334720" y="909000"/>
              <a:ext cx="3963960" cy="75528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3610080" y="773280"/>
              <a:ext cx="7641360" cy="8992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3898440" y="786240"/>
              <a:ext cx="7535880" cy="8190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7731000" y="771840"/>
              <a:ext cx="4559040" cy="68904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10"/>
            <p:cNvSpPr/>
            <p:nvPr/>
          </p:nvSpPr>
          <p:spPr>
            <a:xfrm>
              <a:off x="291960" y="755640"/>
              <a:ext cx="12022200" cy="140652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 fontScale="93000"/>
          </a:bodyPr>
          <a:p>
            <a:pPr marL="315720" indent="-31572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1" marL="664200" indent="-31536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2" marL="98604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3" marL="1318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4" marL="1687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5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6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711648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26640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5500440" y="6611760"/>
            <a:ext cx="1600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DD68-C2B3-49CB-9B04-D3FA54A34936}" type="slidenum">
              <a:rPr b="0" lang="hu-HU" sz="12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314280" y="241200"/>
            <a:ext cx="11984040" cy="15098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" name="Group 23"/>
          <p:cNvGrpSpPr/>
          <p:nvPr/>
        </p:nvGrpSpPr>
        <p:grpSpPr>
          <a:xfrm>
            <a:off x="291960" y="755640"/>
            <a:ext cx="12022200" cy="1407960"/>
            <a:chOff x="291960" y="755640"/>
            <a:chExt cx="12022200" cy="1407960"/>
          </a:xfrm>
        </p:grpSpPr>
        <p:sp>
          <p:nvSpPr>
            <p:cNvPr id="241" name="Freeform 14"/>
            <p:cNvSpPr/>
            <p:nvPr/>
          </p:nvSpPr>
          <p:spPr>
            <a:xfrm>
              <a:off x="8344800" y="909000"/>
              <a:ext cx="3969360" cy="7560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3614400" y="773280"/>
              <a:ext cx="7651080" cy="9000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3903120" y="786240"/>
              <a:ext cx="7545600" cy="819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7740720" y="771840"/>
              <a:ext cx="4564800" cy="6897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28"/>
            <p:cNvSpPr/>
            <p:nvPr/>
          </p:nvSpPr>
          <p:spPr>
            <a:xfrm>
              <a:off x="291960" y="755640"/>
              <a:ext cx="12022200" cy="14079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 fontScale="93000"/>
          </a:bodyPr>
          <a:p>
            <a:pPr marL="315720" indent="-31572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1" marL="664200" indent="-31536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2" marL="98604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3" marL="1318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4" marL="1687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5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6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711648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26640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5500440" y="6611760"/>
            <a:ext cx="1600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FFE6-FADD-4F8B-AF55-6CD8051F42F2}" type="slidenum">
              <a:rPr b="0" lang="hu-HU" sz="12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314280" y="241200"/>
            <a:ext cx="11984040" cy="63849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8"/>
          <p:cNvGrpSpPr/>
          <p:nvPr/>
        </p:nvGrpSpPr>
        <p:grpSpPr>
          <a:xfrm>
            <a:off x="291960" y="5664240"/>
            <a:ext cx="12022200" cy="1407960"/>
            <a:chOff x="291960" y="5664240"/>
            <a:chExt cx="12022200" cy="1407960"/>
          </a:xfrm>
        </p:grpSpPr>
        <p:sp>
          <p:nvSpPr>
            <p:cNvPr id="289" name="Freeform 14"/>
            <p:cNvSpPr/>
            <p:nvPr/>
          </p:nvSpPr>
          <p:spPr>
            <a:xfrm>
              <a:off x="8344800" y="5817600"/>
              <a:ext cx="3969360" cy="7560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3614400" y="5681880"/>
              <a:ext cx="7651080" cy="9000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3903120" y="5694840"/>
              <a:ext cx="7545600" cy="819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7740720" y="5680440"/>
              <a:ext cx="4564800" cy="6897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10"/>
            <p:cNvSpPr/>
            <p:nvPr/>
          </p:nvSpPr>
          <p:spPr>
            <a:xfrm>
              <a:off x="291960" y="5664240"/>
              <a:ext cx="12022200" cy="14079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 fontScale="93000"/>
          </a:bodyPr>
          <a:p>
            <a:pPr marL="315720" indent="-31572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1" marL="664200" indent="-31536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2" marL="98604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3" marL="1318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4" marL="1687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5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6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711648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26640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5500440" y="6611760"/>
            <a:ext cx="1600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1101-5D6A-4629-BF2B-A7581BDDD68C}" type="slidenum">
              <a:rPr b="0" lang="hu-HU" sz="12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20"/>
          <p:cNvSpPr/>
          <p:nvPr/>
        </p:nvSpPr>
        <p:spPr>
          <a:xfrm>
            <a:off x="314280" y="241200"/>
            <a:ext cx="11984040" cy="15098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6" name="Group 14"/>
          <p:cNvGrpSpPr/>
          <p:nvPr/>
        </p:nvGrpSpPr>
        <p:grpSpPr>
          <a:xfrm>
            <a:off x="291960" y="755640"/>
            <a:ext cx="12022200" cy="1407960"/>
            <a:chOff x="291960" y="755640"/>
            <a:chExt cx="12022200" cy="1407960"/>
          </a:xfrm>
        </p:grpSpPr>
        <p:sp>
          <p:nvSpPr>
            <p:cNvPr id="337" name="Freeform 14"/>
            <p:cNvSpPr/>
            <p:nvPr/>
          </p:nvSpPr>
          <p:spPr>
            <a:xfrm>
              <a:off x="8344800" y="909000"/>
              <a:ext cx="3969360" cy="7560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3614400" y="773280"/>
              <a:ext cx="7651080" cy="9000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3903120" y="786240"/>
              <a:ext cx="7545600" cy="819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7740720" y="771840"/>
              <a:ext cx="4564800" cy="6897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Freeform 19"/>
            <p:cNvSpPr/>
            <p:nvPr/>
          </p:nvSpPr>
          <p:spPr>
            <a:xfrm>
              <a:off x="291960" y="755640"/>
              <a:ext cx="12022200" cy="14079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 fontScale="93000"/>
          </a:bodyPr>
          <a:p>
            <a:pPr marL="315720" indent="-31572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1" marL="664200" indent="-31536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2" marL="98604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3" marL="1318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4" marL="1687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5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6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711648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26640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5500440" y="6611760"/>
            <a:ext cx="1600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95AD-6084-42E3-98E4-EA8756E2AEB8}" type="slidenum">
              <a:rPr b="0" lang="hu-HU" sz="12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15"/>
          <p:cNvSpPr/>
          <p:nvPr/>
        </p:nvSpPr>
        <p:spPr>
          <a:xfrm>
            <a:off x="314280" y="241200"/>
            <a:ext cx="11984040" cy="63849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4" name="Group 9"/>
          <p:cNvGrpSpPr/>
          <p:nvPr/>
        </p:nvGrpSpPr>
        <p:grpSpPr>
          <a:xfrm>
            <a:off x="291960" y="5664240"/>
            <a:ext cx="12022200" cy="1407960"/>
            <a:chOff x="291960" y="5664240"/>
            <a:chExt cx="12022200" cy="1407960"/>
          </a:xfrm>
        </p:grpSpPr>
        <p:sp>
          <p:nvSpPr>
            <p:cNvPr id="385" name="Freeform 14"/>
            <p:cNvSpPr/>
            <p:nvPr/>
          </p:nvSpPr>
          <p:spPr>
            <a:xfrm>
              <a:off x="8345520" y="5817960"/>
              <a:ext cx="3968640" cy="7556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3614400" y="5681520"/>
              <a:ext cx="7650360" cy="9000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Freeform 22"/>
            <p:cNvSpPr/>
            <p:nvPr/>
          </p:nvSpPr>
          <p:spPr>
            <a:xfrm>
              <a:off x="3903480" y="5694120"/>
              <a:ext cx="7545600" cy="8208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Freeform 26"/>
            <p:cNvSpPr/>
            <p:nvPr/>
          </p:nvSpPr>
          <p:spPr>
            <a:xfrm>
              <a:off x="7740720" y="5680080"/>
              <a:ext cx="4564080" cy="6904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Freeform 10"/>
            <p:cNvSpPr/>
            <p:nvPr/>
          </p:nvSpPr>
          <p:spPr>
            <a:xfrm>
              <a:off x="291960" y="5664240"/>
              <a:ext cx="12022200" cy="14079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1201320" y="2830320"/>
            <a:ext cx="10209240" cy="36493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rmAutofit fontScale="93000"/>
          </a:bodyPr>
          <a:p>
            <a:pPr marL="315720" indent="-31572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1" marL="664200" indent="-31536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2" marL="98604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3" marL="1318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4" marL="1687320" indent="-26280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5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lvl="6" marL="1687320" indent="-262800">
              <a:spcBef>
                <a:spcPts val="751"/>
              </a:spcBef>
              <a:buClr>
                <a:srgbClr val="000000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711648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266400" y="6611760"/>
            <a:ext cx="5218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5500440" y="6611760"/>
            <a:ext cx="1600200" cy="3859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8747-F1F7-4C56-958B-B37B38DE074C}" type="slidenum">
              <a:rPr b="0" lang="hu-HU" sz="12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260360" y="764640"/>
            <a:ext cx="10709280" cy="151308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4800" spc="-1" strike="noStrike">
                <a:solidFill>
                  <a:srgbClr val="ffff00"/>
                </a:solidFill>
                <a:latin typeface="Book Antiqua"/>
              </a:rPr>
              <a:t>    </a:t>
            </a:r>
            <a:r>
              <a:rPr b="1" lang="hu-HU" sz="4800" spc="-1" strike="noStrike">
                <a:solidFill>
                  <a:srgbClr val="ffff00"/>
                </a:solidFill>
                <a:latin typeface="Book Antiqua"/>
              </a:rPr>
              <a:t>ÜDÜLŐHELYI FÓRUM</a:t>
            </a:r>
            <a:br>
              <a:rPr sz="4000"/>
            </a:br>
            <a:r>
              <a:rPr b="1" lang="hu-HU" sz="4000" spc="-1" strike="noStrike">
                <a:solidFill>
                  <a:srgbClr val="ffff00"/>
                </a:solidFill>
                <a:latin typeface="Book Antiqua"/>
              </a:rPr>
              <a:t>2018. június 16.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396720" y="2548080"/>
            <a:ext cx="11736720" cy="425448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2800" spc="-1" strike="noStrike">
                <a:solidFill>
                  <a:srgbClr val="052e65"/>
                </a:solidFill>
                <a:latin typeface="Book Antiqua"/>
              </a:rPr>
              <a:t>   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31b6fd"/>
              </a:buClr>
              <a:buFont typeface="Arial"/>
              <a:buChar char="•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2800" spc="-1" strike="noStrike">
                <a:solidFill>
                  <a:srgbClr val="052e65"/>
                </a:solidFill>
                <a:latin typeface="Book Antiqua"/>
              </a:rPr>
              <a:t>      </a:t>
            </a:r>
            <a:r>
              <a:rPr b="1" lang="hu-HU" sz="2800" spc="-1" strike="noStrike">
                <a:solidFill>
                  <a:srgbClr val="052e65"/>
                </a:solidFill>
                <a:latin typeface="Book Antiqua"/>
              </a:rPr>
              <a:t>Beszámoló a Község 2017. évi gazdálkodásáról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31b6fd"/>
              </a:buClr>
              <a:buFont typeface="Arial"/>
              <a:buChar char="•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2800" spc="-1" strike="noStrike">
                <a:solidFill>
                  <a:srgbClr val="052e65"/>
                </a:solidFill>
                <a:latin typeface="Book Antiqua"/>
              </a:rPr>
              <a:t>      </a:t>
            </a:r>
            <a:r>
              <a:rPr b="1" lang="hu-HU" sz="2800" spc="-1" strike="noStrike">
                <a:solidFill>
                  <a:srgbClr val="052e65"/>
                </a:solidFill>
                <a:latin typeface="Book Antiqua"/>
              </a:rPr>
              <a:t>2018.évi költségvetés tervezett bevételei és kiadásai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31b6fd"/>
              </a:buClr>
              <a:buFont typeface="Arial"/>
              <a:buChar char="•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2800" spc="-1" strike="noStrike">
                <a:solidFill>
                  <a:srgbClr val="052e65"/>
                </a:solidFill>
                <a:latin typeface="Book Antiqua"/>
              </a:rPr>
              <a:t>      </a:t>
            </a:r>
            <a:r>
              <a:rPr b="1" lang="hu-HU" sz="2800" spc="-1" strike="noStrike">
                <a:solidFill>
                  <a:srgbClr val="052e65"/>
                </a:solidFill>
                <a:latin typeface="Book Antiqua"/>
              </a:rPr>
              <a:t>Tervezett fejlesztések, beruházások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679" name="Picture 6" descr="Balatonmariafurdo címer"/>
          <p:cNvPicPr/>
          <p:nvPr/>
        </p:nvPicPr>
        <p:blipFill>
          <a:blip r:embed="rId1"/>
          <a:stretch/>
        </p:blipFill>
        <p:spPr>
          <a:xfrm>
            <a:off x="1092240" y="603360"/>
            <a:ext cx="1868400" cy="1655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07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Balatonmáriafürdő Önkormányzatának</a:t>
            </a:r>
            <a:br>
              <a:rPr sz="3600"/>
            </a:b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2018.évi  Állami támogatása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720" name="Kép 4" descr=""/>
          <p:cNvPicPr/>
          <p:nvPr/>
        </p:nvPicPr>
        <p:blipFill>
          <a:blip r:embed="rId1"/>
          <a:stretch/>
        </p:blipFill>
        <p:spPr>
          <a:xfrm>
            <a:off x="9325080" y="4059360"/>
            <a:ext cx="2890800" cy="30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1" name=""/>
          <p:cNvGraphicFramePr/>
          <p:nvPr/>
        </p:nvGraphicFramePr>
        <p:xfrm>
          <a:off x="828720" y="2548080"/>
          <a:ext cx="10296360" cy="4392360"/>
        </p:xfrm>
        <a:graphic>
          <a:graphicData uri="http://schemas.openxmlformats.org/drawingml/2006/table">
            <a:tbl>
              <a:tblPr/>
              <a:tblGrid>
                <a:gridCol w="8237520"/>
                <a:gridCol w="2058840"/>
              </a:tblGrid>
              <a:tr h="405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  <a:ea typeface="Arial"/>
                        </a:rPr>
                        <a:t>Zöldterület gazdálkodással kapcsolatos feladatokr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  <a:ea typeface="Arial"/>
                        </a:rPr>
                        <a:t>647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  <a:ea typeface="Arial"/>
                        </a:rPr>
                        <a:t>Köztemető fenntartással kapcsolatos feladatokr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  <a:ea typeface="Arial"/>
                        </a:rPr>
                        <a:t>1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  <a:ea typeface="Arial"/>
                        </a:rPr>
                        <a:t>Közvilágítás fenntartásának támogatás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  <a:ea typeface="Arial"/>
                        </a:rPr>
                        <a:t>15 04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  <a:ea typeface="Arial"/>
                        </a:rPr>
                        <a:t>Közutak fenntartásának támogatás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  <a:ea typeface="Arial"/>
                        </a:rPr>
                        <a:t>870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  <a:ea typeface="Arial"/>
                        </a:rPr>
                        <a:t>Egyéb kötelező önkormányzati felada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  <a:ea typeface="Arial"/>
                        </a:rPr>
                        <a:t>410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  <a:ea typeface="Arial"/>
                        </a:rPr>
                        <a:t>Üdülőhelyi feladat támogatás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  <a:ea typeface="Arial"/>
                        </a:rPr>
                        <a:t>17 77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  <a:ea typeface="Arial"/>
                        </a:rPr>
                        <a:t>Önkormányzatok szociális  feladatainak támogatás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  <a:ea typeface="Arial"/>
                        </a:rPr>
                        <a:t>588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  <a:ea typeface="Arial"/>
                        </a:rPr>
                        <a:t>Könyvtári, közművelődési ellátás támogatás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  <a:ea typeface="Arial"/>
                        </a:rPr>
                        <a:t>18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600" spc="-1" strike="noStrike">
                          <a:solidFill>
                            <a:srgbClr val="016296"/>
                          </a:solidFill>
                          <a:latin typeface="Book Antiqua"/>
                          <a:ea typeface="Arial"/>
                        </a:rPr>
                        <a:t>Állami támogatás rendszeres minden évben összese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600" spc="-1" strike="noStrike">
                          <a:solidFill>
                            <a:srgbClr val="016296"/>
                          </a:solidFill>
                          <a:latin typeface="Book Antiqua"/>
                          <a:ea typeface="Arial"/>
                        </a:rPr>
                        <a:t>59 88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2" name="Téglalap 4"/>
          <p:cNvSpPr/>
          <p:nvPr/>
        </p:nvSpPr>
        <p:spPr>
          <a:xfrm>
            <a:off x="10493640" y="1990800"/>
            <a:ext cx="1739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6436b"/>
                </a:solidFill>
                <a:latin typeface="Book Antiqua"/>
                <a:ea typeface="Times New Roman"/>
              </a:rPr>
              <a:t>Adatok: e Ft-b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07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Balatonmáriafürdő Önkormányzatának </a:t>
            </a:r>
            <a:br>
              <a:rPr sz="3600"/>
            </a:b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2018.évi tervezett bevételei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724" name="Kép 4" descr=""/>
          <p:cNvPicPr/>
          <p:nvPr/>
        </p:nvPicPr>
        <p:blipFill>
          <a:blip r:embed="rId1"/>
          <a:stretch/>
        </p:blipFill>
        <p:spPr>
          <a:xfrm>
            <a:off x="9325080" y="4059360"/>
            <a:ext cx="2890800" cy="30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5" name=""/>
          <p:cNvGraphicFramePr/>
          <p:nvPr/>
        </p:nvGraphicFramePr>
        <p:xfrm>
          <a:off x="1620720" y="2548080"/>
          <a:ext cx="8136000" cy="4309920"/>
        </p:xfrm>
        <a:graphic>
          <a:graphicData uri="http://schemas.openxmlformats.org/drawingml/2006/table">
            <a:tbl>
              <a:tblPr/>
              <a:tblGrid>
                <a:gridCol w="6994800"/>
                <a:gridCol w="1141200"/>
              </a:tblGrid>
              <a:tr h="431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  <a:ea typeface="Arial"/>
                        </a:rPr>
                        <a:t> </a:t>
                      </a: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  <a:ea typeface="Arial"/>
                        </a:rPr>
                        <a:t>Strand bevétel Áfa nélkü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  <a:ea typeface="Arial"/>
                        </a:rPr>
                        <a:t>14 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  <a:ea typeface="Arial"/>
                        </a:rPr>
                        <a:t> </a:t>
                      </a: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  <a:ea typeface="Arial"/>
                        </a:rPr>
                        <a:t>Strandok közterület használati díjak Áfa nélkü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  <a:ea typeface="Arial"/>
                        </a:rPr>
                        <a:t>476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  <a:ea typeface="Arial"/>
                        </a:rPr>
                        <a:t> </a:t>
                      </a: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  <a:ea typeface="Arial"/>
                        </a:rPr>
                        <a:t>Közterület használati díj Áfa nélkü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  <a:ea typeface="Arial"/>
                        </a:rPr>
                        <a:t>15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  <a:ea typeface="Arial"/>
                        </a:rPr>
                        <a:t> </a:t>
                      </a: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  <a:ea typeface="Arial"/>
                        </a:rPr>
                        <a:t>Csónakkikötő bérleti díj Áfa nélkü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  <a:ea typeface="Arial"/>
                        </a:rPr>
                        <a:t>76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  <a:ea typeface="Arial"/>
                        </a:rPr>
                        <a:t> </a:t>
                      </a: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  <a:ea typeface="Arial"/>
                        </a:rPr>
                        <a:t>Műfüves focipálya bérleti díj Áfa nélkü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  <a:ea typeface="Arial"/>
                        </a:rPr>
                        <a:t>25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  <a:ea typeface="Arial"/>
                        </a:rPr>
                        <a:t> </a:t>
                      </a: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  <a:ea typeface="Arial"/>
                        </a:rPr>
                        <a:t>Továbbszámlázott bevételek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  <a:ea typeface="Arial"/>
                        </a:rPr>
                        <a:t>4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  <a:ea typeface="Arial"/>
                        </a:rPr>
                        <a:t> </a:t>
                      </a: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  <a:ea typeface="Arial"/>
                        </a:rPr>
                        <a:t>Kamatbevéte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  <a:ea typeface="Arial"/>
                        </a:rPr>
                        <a:t>14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800" spc="-1" strike="noStrike">
                          <a:solidFill>
                            <a:srgbClr val="016296"/>
                          </a:solidFill>
                          <a:latin typeface="Book Antiqua"/>
                          <a:ea typeface="Arial"/>
                        </a:rPr>
                        <a:t>Működési bevétel összes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800" spc="-1" strike="noStrike">
                          <a:solidFill>
                            <a:srgbClr val="016296"/>
                          </a:solidFill>
                          <a:latin typeface="Book Antiqua"/>
                          <a:ea typeface="Arial"/>
                        </a:rPr>
                        <a:t>26 6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6" name="Téglalap 4"/>
          <p:cNvSpPr/>
          <p:nvPr/>
        </p:nvSpPr>
        <p:spPr>
          <a:xfrm>
            <a:off x="10493640" y="1990800"/>
            <a:ext cx="1739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6436b"/>
                </a:solidFill>
                <a:latin typeface="Book Antiqua"/>
                <a:ea typeface="Times New Roman"/>
              </a:rPr>
              <a:t>Adatok: e Ft-b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07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Balatonmáriafürdő Önkormányzatának </a:t>
            </a:r>
            <a:br>
              <a:rPr sz="3600"/>
            </a:b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2018.évi tervezett működési kiadásai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728" name="Kép 4" descr=""/>
          <p:cNvPicPr/>
          <p:nvPr/>
        </p:nvPicPr>
        <p:blipFill>
          <a:blip r:embed="rId1"/>
          <a:stretch/>
        </p:blipFill>
        <p:spPr>
          <a:xfrm>
            <a:off x="9325080" y="4059360"/>
            <a:ext cx="2890800" cy="30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9" name=""/>
          <p:cNvGraphicFramePr/>
          <p:nvPr/>
        </p:nvGraphicFramePr>
        <p:xfrm>
          <a:off x="833400" y="2428920"/>
          <a:ext cx="9570960" cy="4513320"/>
        </p:xfrm>
        <a:graphic>
          <a:graphicData uri="http://schemas.openxmlformats.org/drawingml/2006/table">
            <a:tbl>
              <a:tblPr/>
              <a:tblGrid>
                <a:gridCol w="7716960"/>
                <a:gridCol w="1854000"/>
              </a:tblGrid>
              <a:tr h="498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Személyi juttatás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71 00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Munkaadót terhelő járulék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14 43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Dologi kiadások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151 90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Támogatás értékű működési kiadá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31 03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Működési célú pénz átadás ÁHT-n kívülr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10 41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Szociális ellátások, segélyek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349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c00000"/>
                          </a:solidFill>
                          <a:latin typeface="Book Antiqua"/>
                        </a:rPr>
                        <a:t>Működési célú tartalék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c00000"/>
                          </a:solidFill>
                          <a:latin typeface="Book Antiqua"/>
                        </a:rPr>
                        <a:t>53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Előző évi állami támogatás visszafizeté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6 11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32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Működési kiadás mindösszes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32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293 69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0" name="Téglalap 4"/>
          <p:cNvSpPr/>
          <p:nvPr/>
        </p:nvSpPr>
        <p:spPr>
          <a:xfrm>
            <a:off x="10493640" y="1990800"/>
            <a:ext cx="1739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6436b"/>
                </a:solidFill>
                <a:latin typeface="Book Antiqua"/>
                <a:ea typeface="Times New Roman"/>
              </a:rPr>
              <a:t>Adatok: e Ft-b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07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Balatonmáriafürdő Önkormányzatának </a:t>
            </a:r>
            <a:br>
              <a:rPr sz="3600"/>
            </a:b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2018.évi tervezett felhalmozási kiadásai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732" name="Kép 4" descr=""/>
          <p:cNvPicPr/>
          <p:nvPr/>
        </p:nvPicPr>
        <p:blipFill>
          <a:blip r:embed="rId1"/>
          <a:stretch/>
        </p:blipFill>
        <p:spPr>
          <a:xfrm>
            <a:off x="9325080" y="4059360"/>
            <a:ext cx="2890800" cy="30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3" name=""/>
          <p:cNvGraphicFramePr/>
          <p:nvPr/>
        </p:nvGraphicFramePr>
        <p:xfrm>
          <a:off x="833400" y="2428920"/>
          <a:ext cx="9942480" cy="3549600"/>
        </p:xfrm>
        <a:graphic>
          <a:graphicData uri="http://schemas.openxmlformats.org/drawingml/2006/table">
            <a:tbl>
              <a:tblPr/>
              <a:tblGrid>
                <a:gridCol w="7716960"/>
                <a:gridCol w="2225520"/>
              </a:tblGrid>
              <a:tr h="498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Felújítá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72 03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Beruházá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300 59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Támogatás értékű felhalmozási kiadá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Felhalmozási célú pénz átadás ÁHT-n kívülr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Kincstárjegy vásárlá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c00000"/>
                          </a:solidFill>
                          <a:latin typeface="Book Antiqua"/>
                        </a:rPr>
                        <a:t>Felhalmozási célú tartalék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600" spc="-1" strike="noStrike">
                          <a:solidFill>
                            <a:srgbClr val="c00000"/>
                          </a:solidFill>
                          <a:latin typeface="Book Antiqua"/>
                        </a:rPr>
                        <a:t>235 79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32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Felhalmozási kiadás mindösszes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3200" spc="-1" strike="noStrike">
                          <a:solidFill>
                            <a:srgbClr val="016296"/>
                          </a:solidFill>
                          <a:latin typeface="Book Antiqua"/>
                        </a:rPr>
                        <a:t>608 41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4" name="Téglalap 4"/>
          <p:cNvSpPr/>
          <p:nvPr/>
        </p:nvSpPr>
        <p:spPr>
          <a:xfrm>
            <a:off x="10493640" y="1990800"/>
            <a:ext cx="1739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6436b"/>
                </a:solidFill>
                <a:latin typeface="Book Antiqua"/>
                <a:ea typeface="Times New Roman"/>
              </a:rPr>
              <a:t>Adatok: e Ft-b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828720" y="2279520"/>
            <a:ext cx="10709280" cy="309744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b">
            <a:noAutofit/>
          </a:bodyPr>
          <a:p>
            <a:pPr marL="512640" indent="0" algn="ctr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4300" spc="-1" strike="noStrike">
                <a:solidFill>
                  <a:srgbClr val="ffff00"/>
                </a:solidFill>
                <a:latin typeface="Book Antiqua"/>
              </a:rPr>
              <a:t> </a:t>
            </a:r>
            <a:r>
              <a:rPr b="1" lang="hu-HU" sz="6500" spc="-1" strike="noStrike">
                <a:solidFill>
                  <a:srgbClr val="ffff00"/>
                </a:solidFill>
                <a:latin typeface="Book Antiqua"/>
              </a:rPr>
              <a:t>2018.évre tervezett fejlesztések, beruházások Balatonmáriafürdőn </a:t>
            </a:r>
            <a:endParaRPr b="0" lang="en-US" sz="65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736" name="Picture 6" descr="Balatonmariafurdo címer"/>
          <p:cNvPicPr/>
          <p:nvPr/>
        </p:nvPicPr>
        <p:blipFill>
          <a:blip r:embed="rId1"/>
          <a:stretch/>
        </p:blipFill>
        <p:spPr>
          <a:xfrm>
            <a:off x="1092240" y="603360"/>
            <a:ext cx="1868400" cy="1655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07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Tervezett fejlesztések Balatonmáriafürdőn 2018</a:t>
            </a:r>
            <a:br>
              <a:rPr sz="3600"/>
            </a:b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Nyertes pályázati döntés alapján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38" name="Téglalap 4"/>
          <p:cNvSpPr/>
          <p:nvPr/>
        </p:nvSpPr>
        <p:spPr>
          <a:xfrm>
            <a:off x="8471160" y="1755720"/>
            <a:ext cx="1739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6436b"/>
                </a:solidFill>
                <a:latin typeface="Book Antiqua"/>
                <a:ea typeface="Times New Roman"/>
              </a:rPr>
              <a:t>Adatok: e Ft-b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9" name="Kép 4" descr=""/>
          <p:cNvPicPr/>
          <p:nvPr/>
        </p:nvPicPr>
        <p:blipFill>
          <a:blip r:embed="rId1"/>
          <a:stretch/>
        </p:blipFill>
        <p:spPr>
          <a:xfrm>
            <a:off x="9325080" y="4059360"/>
            <a:ext cx="2890800" cy="30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0" name=""/>
          <p:cNvGraphicFramePr/>
          <p:nvPr/>
        </p:nvGraphicFramePr>
        <p:xfrm>
          <a:off x="468360" y="2619360"/>
          <a:ext cx="11665080" cy="3632040"/>
        </p:xfrm>
        <a:graphic>
          <a:graphicData uri="http://schemas.openxmlformats.org/drawingml/2006/table">
            <a:tbl>
              <a:tblPr/>
              <a:tblGrid>
                <a:gridCol w="3240000"/>
                <a:gridCol w="6553080"/>
                <a:gridCol w="1872000"/>
              </a:tblGrid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31f43"/>
                          </a:solidFill>
                          <a:latin typeface="Book Antiqua"/>
                        </a:rPr>
                        <a:t>Fejlesztés helyszí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31f43"/>
                          </a:solidFill>
                          <a:latin typeface="Book Antiqua"/>
                        </a:rPr>
                        <a:t>Rövid leír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31f43"/>
                          </a:solidFill>
                          <a:latin typeface="Book Antiqua"/>
                        </a:rPr>
                        <a:t>Nettó költsé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4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2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Védőnői rendelő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lvl="1" marL="852480" indent="-28584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0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TOP-4.1.1-15-SO1-2016-00008 számú pályázatra benyújtott projekt, az orvosi szolgálati lakás helyén védőnői rendelő kialakítása, épület felújítással, eszközbeszerzéss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lvl="1" marL="566640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0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59 8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2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Belvízvédelmi rendszere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lvl="1" marL="852480" indent="-28584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0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TOP-2.1.3-15-SO1-2016-00009 számú pályázatra benyújtott projekt belvíz és csapadékvíz elvezetési problémák megoldásá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lvl="1" marL="566640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0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312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2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Kerékpárút fejleszté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lvl="1" marL="852480" indent="-28584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0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Balatonmáriafürdő - Mesztegnyő kerékpárút kialakítása TOP pályáz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lvl="1" marL="566640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0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8 2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07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Tervezett fejlesztések Balatonmáriafürdőn 2018</a:t>
            </a:r>
            <a:br>
              <a:rPr sz="3600"/>
            </a:b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Nyertes pályázati döntés alapján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2" name="Téglalap 4"/>
          <p:cNvSpPr/>
          <p:nvPr/>
        </p:nvSpPr>
        <p:spPr>
          <a:xfrm>
            <a:off x="8471160" y="1755720"/>
            <a:ext cx="1739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6436b"/>
                </a:solidFill>
                <a:latin typeface="Book Antiqua"/>
                <a:ea typeface="Times New Roman"/>
              </a:rPr>
              <a:t>Adatok: e Ft-b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3" name="Kép 4" descr=""/>
          <p:cNvPicPr/>
          <p:nvPr/>
        </p:nvPicPr>
        <p:blipFill>
          <a:blip r:embed="rId1"/>
          <a:stretch/>
        </p:blipFill>
        <p:spPr>
          <a:xfrm>
            <a:off x="9325080" y="4059360"/>
            <a:ext cx="2890800" cy="30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4" name=""/>
          <p:cNvGraphicFramePr/>
          <p:nvPr/>
        </p:nvGraphicFramePr>
        <p:xfrm>
          <a:off x="396720" y="2619360"/>
          <a:ext cx="11665080" cy="3063960"/>
        </p:xfrm>
        <a:graphic>
          <a:graphicData uri="http://schemas.openxmlformats.org/drawingml/2006/table">
            <a:tbl>
              <a:tblPr/>
              <a:tblGrid>
                <a:gridCol w="3024360"/>
                <a:gridCol w="6696000"/>
                <a:gridCol w="1944720"/>
              </a:tblGrid>
              <a:tr h="503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31f43"/>
                          </a:solidFill>
                          <a:latin typeface="Book Antiqua"/>
                        </a:rPr>
                        <a:t>Fejlesztés helyszí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31f43"/>
                          </a:solidFill>
                          <a:latin typeface="Book Antiqua"/>
                        </a:rPr>
                        <a:t>Rövid leír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31f43"/>
                          </a:solidFill>
                          <a:latin typeface="Book Antiqua"/>
                        </a:rPr>
                        <a:t>Nettó költsé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2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Önkormányzati közutak, járdá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lvl="1" marL="852480" indent="-28584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18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Rákóczi F. utcai járda meglévő betonburkolatú járda felújítása (Hold- Őrház utca közti szakasz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lvl="1" marL="566640"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18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11 11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lvl="1" marL="852480" indent="-28584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18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Rákóczi F. utcai útpadka javítás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lvl="1" marL="852480" indent="-285840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18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     </a:t>
                      </a:r>
                      <a:r>
                        <a:rPr b="0" lang="hu-HU" sz="18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(Szilágyi és Csatornapart utca közöt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lvl="1" marL="566640"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18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4 7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1800" spc="-1" strike="noStrike">
                          <a:solidFill>
                            <a:srgbClr val="c00000"/>
                          </a:solidFill>
                          <a:latin typeface="Book Antiqua"/>
                        </a:rPr>
                        <a:t>   </a:t>
                      </a:r>
                      <a:r>
                        <a:rPr b="1" lang="hu-HU" sz="1800" spc="-1" strike="noStrike">
                          <a:solidFill>
                            <a:srgbClr val="c00000"/>
                          </a:solidFill>
                          <a:latin typeface="Book Antiqua"/>
                        </a:rPr>
                        <a:t>A feladatok megvalósítására elnyert támogatás össze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lvl="1" marL="566640"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1800" spc="-1" strike="noStrike">
                          <a:solidFill>
                            <a:srgbClr val="c00000"/>
                          </a:solidFill>
                          <a:latin typeface="Book Antiqua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2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2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Munkagép beszerzé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18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Erő- és munkagép beszerzés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18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(traktor és kompatibilis gréder, tolólap beszerzé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18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10 32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18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Ebből támogatás  </a:t>
                      </a:r>
                      <a:r>
                        <a:rPr b="1" lang="hu-HU" sz="1800" spc="-1" strike="noStrike">
                          <a:solidFill>
                            <a:srgbClr val="c00000"/>
                          </a:solidFill>
                          <a:latin typeface="Book Antiqua"/>
                        </a:rPr>
                        <a:t>87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07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Tervezett fejlesztések Balatonmáriafürdőn 2018</a:t>
            </a:r>
            <a:br>
              <a:rPr sz="3600"/>
            </a:b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Önerős beruházások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6" name="Téglalap 4"/>
          <p:cNvSpPr/>
          <p:nvPr/>
        </p:nvSpPr>
        <p:spPr>
          <a:xfrm>
            <a:off x="8471160" y="1755720"/>
            <a:ext cx="1739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6436b"/>
                </a:solidFill>
                <a:latin typeface="Book Antiqua"/>
                <a:ea typeface="Times New Roman"/>
              </a:rPr>
              <a:t>Adatok: e Ft-b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7" name="Kép 4" descr=""/>
          <p:cNvPicPr/>
          <p:nvPr/>
        </p:nvPicPr>
        <p:blipFill>
          <a:blip r:embed="rId1"/>
          <a:stretch/>
        </p:blipFill>
        <p:spPr>
          <a:xfrm>
            <a:off x="9325080" y="4059360"/>
            <a:ext cx="2890800" cy="30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8" name=""/>
          <p:cNvGraphicFramePr/>
          <p:nvPr/>
        </p:nvGraphicFramePr>
        <p:xfrm>
          <a:off x="468360" y="2619360"/>
          <a:ext cx="11207880" cy="3714840"/>
        </p:xfrm>
        <a:graphic>
          <a:graphicData uri="http://schemas.openxmlformats.org/drawingml/2006/table">
            <a:tbl>
              <a:tblPr/>
              <a:tblGrid>
                <a:gridCol w="3060720"/>
                <a:gridCol w="6480000"/>
                <a:gridCol w="1667160"/>
              </a:tblGrid>
              <a:tr h="619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31f43"/>
                          </a:solidFill>
                          <a:latin typeface="Book Antiqua"/>
                        </a:rPr>
                        <a:t>Fejlesztés helyszí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31f43"/>
                          </a:solidFill>
                          <a:latin typeface="Book Antiqua"/>
                        </a:rPr>
                        <a:t>Rövid leír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31f43"/>
                          </a:solidFill>
                          <a:latin typeface="Book Antiqua"/>
                        </a:rPr>
                        <a:t>Nettó költsé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2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Központi Fizető Stra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lvl="1" marL="852480" indent="-28584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0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Strand keleti oldalán közvilágítás kiépíté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lvl="1" marL="852480" indent="-285840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0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(kiépült járda mellett közvilágítási kandeláberek, lámpatestek telepítés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lvl="1" marL="566640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 row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2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Szabad strando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lvl="1" marL="852480" indent="-28584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18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Öltözőfülke kialakítá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lvl="1" marL="566640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lvl="1" marL="852480" indent="-28584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18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Hirdetőfelületek kialakítá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lvl="1" marL="566640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2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Közösségi há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lvl="1" marL="852480" indent="-285840">
                        <a:lnSpc>
                          <a:spcPct val="100000"/>
                        </a:lnSpc>
                        <a:buClr>
                          <a:srgbClr val="1b4171"/>
                        </a:buClr>
                        <a:buFont typeface="Arial"/>
                        <a:buChar char="•"/>
                        <a:tabLst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0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Közösségi ház parkolójának tereprendezése, kialakítása, kőszórás pótlása, szegélyezé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lvl="1" marL="566640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200" spc="-1" strike="noStrike">
                          <a:solidFill>
                            <a:srgbClr val="002060"/>
                          </a:solidFill>
                          <a:latin typeface="Book Antiqua"/>
                        </a:rPr>
                        <a:t>Óvod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marL="800280" indent="-285840">
                        <a:lnSpc>
                          <a:spcPct val="100000"/>
                        </a:lnSpc>
                        <a:buClr>
                          <a:srgbClr val="052e65"/>
                        </a:buClr>
                        <a:buFont typeface="Arial"/>
                        <a:buChar char="•"/>
                        <a:tabLst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1800" spc="-1" strike="noStrike">
                          <a:solidFill>
                            <a:srgbClr val="052e65"/>
                          </a:solidFill>
                          <a:latin typeface="Book Antiqua"/>
                        </a:rPr>
                        <a:t>Óvoda épületének részleges felújítás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800280" indent="-285840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1800" spc="-1" strike="noStrike">
                          <a:solidFill>
                            <a:srgbClr val="052e65"/>
                          </a:solidFill>
                          <a:latin typeface="Book Antiqua"/>
                        </a:rPr>
                        <a:t>    </a:t>
                      </a:r>
                      <a:r>
                        <a:rPr b="0" lang="hu-HU" sz="1800" spc="-1" strike="noStrike">
                          <a:solidFill>
                            <a:srgbClr val="052e65"/>
                          </a:solidFill>
                          <a:latin typeface="Book Antiqua"/>
                        </a:rPr>
                        <a:t>fűtés és világítás korszerűsítése, festés, stb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lvl="1" marL="566640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07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Tervezett, előkészítés alatt lévő fejlesztések Balatonmáriafürdőn 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0" name="Téglalap 4"/>
          <p:cNvSpPr/>
          <p:nvPr/>
        </p:nvSpPr>
        <p:spPr>
          <a:xfrm>
            <a:off x="8471160" y="1755720"/>
            <a:ext cx="1739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6436b"/>
                </a:solidFill>
                <a:latin typeface="Book Antiqua"/>
                <a:ea typeface="Times New Roman"/>
              </a:rPr>
              <a:t>Adatok: e Ft-b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1" name="Kép 4" descr=""/>
          <p:cNvPicPr/>
          <p:nvPr/>
        </p:nvPicPr>
        <p:blipFill>
          <a:blip r:embed="rId1"/>
          <a:stretch/>
        </p:blipFill>
        <p:spPr>
          <a:xfrm>
            <a:off x="9325080" y="4059360"/>
            <a:ext cx="2890800" cy="3024000"/>
          </a:xfrm>
          <a:prstGeom prst="rect">
            <a:avLst/>
          </a:prstGeom>
          <a:ln w="0">
            <a:noFill/>
          </a:ln>
        </p:spPr>
      </p:pic>
      <p:sp>
        <p:nvSpPr>
          <p:cNvPr id="752" name="Cím 1"/>
          <p:cNvSpPr/>
          <p:nvPr/>
        </p:nvSpPr>
        <p:spPr>
          <a:xfrm>
            <a:off x="539640" y="387360"/>
            <a:ext cx="1107144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53" name=""/>
          <p:cNvGraphicFramePr/>
          <p:nvPr/>
        </p:nvGraphicFramePr>
        <p:xfrm>
          <a:off x="511200" y="2475000"/>
          <a:ext cx="11045880" cy="3448080"/>
        </p:xfrm>
        <a:graphic>
          <a:graphicData uri="http://schemas.openxmlformats.org/drawingml/2006/table">
            <a:tbl>
              <a:tblPr/>
              <a:tblGrid>
                <a:gridCol w="4118040"/>
                <a:gridCol w="4484520"/>
                <a:gridCol w="2443320"/>
              </a:tblGrid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31f43"/>
                          </a:solidFill>
                          <a:latin typeface="Book Antiqua"/>
                        </a:rPr>
                        <a:t>Fejlesztés helyszí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31f43"/>
                          </a:solidFill>
                          <a:latin typeface="Book Antiqua"/>
                        </a:rPr>
                        <a:t>Rövid leír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31f43"/>
                          </a:solidFill>
                          <a:latin typeface="Book Antiqua"/>
                        </a:rPr>
                        <a:t>Bruttó költsé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Zagytéri ingat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1b4171"/>
                        </a:buClr>
                        <a:buFont typeface="Arial"/>
                        <a:buChar char="•"/>
                        <a:tabLst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16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Sportpark létesítése (kültéri fitnesz eszközökke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 row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Zagytéri ingatlan é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Csatornapart utc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1b4171"/>
                        </a:buClr>
                        <a:buFont typeface="Arial"/>
                        <a:buChar char="•"/>
                        <a:tabLst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16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Zagytéri ingatlanon sport és szabadidőcentrum kialakítása Magyar és Benke tervek alapjá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1b4171"/>
                        </a:buClr>
                        <a:buFont typeface="Arial"/>
                        <a:buChar char="•"/>
                        <a:tabLst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16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Csatornapart utca kialakítása, felújítása, csapadékvíz elvezetés, közvilágítá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Őrház utca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közlekedési csomópont felújít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1b4171"/>
                        </a:buClr>
                        <a:buFont typeface="Arial"/>
                        <a:buChar char="•"/>
                        <a:tabLst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16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 </a:t>
                      </a:r>
                      <a:r>
                        <a:rPr b="0" lang="hu-HU" sz="16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gyalogos vasúti átjáró és a hozzá kapcsolódó járda, sétány építése, parkolók kialakítá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Csónakkikötő felújít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18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(meglévő kikötő felújítása,bővíté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1b4171"/>
                        </a:buClr>
                        <a:buFont typeface="Arial"/>
                        <a:buChar char="•"/>
                        <a:tabLst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16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497/1-3 hrsz-ú területen Balatoni Hajózási Zrt. által készített kiviteli terv alapján kikötő felújítá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07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Folyamatban lévő fejlesztések Balatonmáriafürdőn 2018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755" name="Kép 4" descr=""/>
          <p:cNvPicPr/>
          <p:nvPr/>
        </p:nvPicPr>
        <p:blipFill>
          <a:blip r:embed="rId1"/>
          <a:stretch/>
        </p:blipFill>
        <p:spPr>
          <a:xfrm>
            <a:off x="9340920" y="4059360"/>
            <a:ext cx="2890800" cy="30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6" name=""/>
          <p:cNvGraphicFramePr/>
          <p:nvPr/>
        </p:nvGraphicFramePr>
        <p:xfrm>
          <a:off x="503280" y="2671920"/>
          <a:ext cx="11712600" cy="1542960"/>
        </p:xfrm>
        <a:graphic>
          <a:graphicData uri="http://schemas.openxmlformats.org/drawingml/2006/table">
            <a:tbl>
              <a:tblPr/>
              <a:tblGrid>
                <a:gridCol w="4583160"/>
                <a:gridCol w="4968720"/>
                <a:gridCol w="2160720"/>
              </a:tblGrid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31f43"/>
                          </a:solidFill>
                          <a:latin typeface="Book Antiqua"/>
                        </a:rPr>
                        <a:t>Fejlesztés helyszí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31f43"/>
                          </a:solidFill>
                          <a:latin typeface="Book Antiqua"/>
                        </a:rPr>
                        <a:t>Rövid leír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31f43"/>
                          </a:solidFill>
                          <a:latin typeface="Book Antiqua"/>
                        </a:rPr>
                        <a:t>Nettó költsé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Rákóczi utca felújítása Csatornapart és Vilma utca részleges felújításáv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0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Elektromos, gáz, internet hálózat építés, Út, sétány parkoló építés. Csapadékvíz elvezetés, közvilágítás építése,növénytelepítés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Kb.: 440 millió fori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7" name="AutoShape 20"/>
          <p:cNvSpPr/>
          <p:nvPr/>
        </p:nvSpPr>
        <p:spPr>
          <a:xfrm>
            <a:off x="1317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8" name="Picture 21" descr=""/>
          <p:cNvPicPr/>
          <p:nvPr/>
        </p:nvPicPr>
        <p:blipFill>
          <a:blip r:embed="rId2"/>
          <a:stretch/>
        </p:blipFill>
        <p:spPr>
          <a:xfrm>
            <a:off x="612720" y="4197240"/>
            <a:ext cx="3851280" cy="288612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22" descr=""/>
          <p:cNvPicPr/>
          <p:nvPr/>
        </p:nvPicPr>
        <p:blipFill>
          <a:blip r:embed="rId3"/>
          <a:stretch/>
        </p:blipFill>
        <p:spPr>
          <a:xfrm>
            <a:off x="4716360" y="4186080"/>
            <a:ext cx="3888000" cy="2918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5400" spc="-1" strike="noStrike">
                <a:solidFill>
                  <a:srgbClr val="ffff00"/>
                </a:solidFill>
                <a:latin typeface="Book Antiqua"/>
              </a:rPr>
              <a:t>Balatonmáriafürdő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1" name="Téglalap 2"/>
          <p:cNvSpPr/>
          <p:nvPr/>
        </p:nvSpPr>
        <p:spPr>
          <a:xfrm>
            <a:off x="1476360" y="2475000"/>
            <a:ext cx="9864720" cy="43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5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hu-HU" sz="2800" spc="-1" strike="noStrike">
                <a:solidFill>
                  <a:srgbClr val="052e65"/>
                </a:solidFill>
                <a:latin typeface="Book Antiqua"/>
              </a:rPr>
              <a:t>Községünk belterülete:</a:t>
            </a:r>
            <a:r>
              <a:rPr b="1" lang="hu-HU" sz="2800" spc="-1" strike="noStrike">
                <a:solidFill>
                  <a:srgbClr val="052e65"/>
                </a:solidFill>
                <a:latin typeface="Book Antiqua"/>
              </a:rPr>
              <a:t> (290 h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5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hu-HU" sz="2800" spc="-1" strike="noStrike">
                <a:solidFill>
                  <a:srgbClr val="052e65"/>
                </a:solidFill>
                <a:latin typeface="Book Antiqua"/>
              </a:rPr>
              <a:t>Külterület (Balaton) </a:t>
            </a:r>
            <a:r>
              <a:rPr b="1" lang="hu-HU" sz="2800" spc="-1" strike="noStrike">
                <a:solidFill>
                  <a:srgbClr val="052e65"/>
                </a:solidFill>
                <a:latin typeface="Book Antiqua"/>
              </a:rPr>
              <a:t>2386 h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5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hu-HU" sz="2800" spc="-1" strike="noStrike">
                <a:solidFill>
                  <a:srgbClr val="052e65"/>
                </a:solidFill>
                <a:latin typeface="Book Antiqua"/>
              </a:rPr>
              <a:t>Úthálózatunk hossza: </a:t>
            </a:r>
            <a:r>
              <a:rPr b="1" lang="hu-HU" sz="2800" spc="-1" strike="noStrike">
                <a:solidFill>
                  <a:srgbClr val="052e65"/>
                </a:solidFill>
                <a:latin typeface="Book Antiqua"/>
              </a:rPr>
              <a:t>37 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5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hu-HU" sz="2800" spc="-1" strike="noStrike">
                <a:solidFill>
                  <a:srgbClr val="052e65"/>
                </a:solidFill>
                <a:latin typeface="Book Antiqua"/>
              </a:rPr>
              <a:t>Állandó lakosok száma: </a:t>
            </a:r>
            <a:r>
              <a:rPr b="1" lang="hu-HU" sz="2800" spc="-1" strike="noStrike">
                <a:solidFill>
                  <a:srgbClr val="031f43"/>
                </a:solidFill>
                <a:latin typeface="Book Antiqua"/>
              </a:rPr>
              <a:t>761  fő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5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hu-HU" sz="2800" spc="-1" strike="noStrike">
                <a:solidFill>
                  <a:srgbClr val="052e65"/>
                </a:solidFill>
                <a:latin typeface="Book Antiqua"/>
              </a:rPr>
              <a:t>Lakó ingatlanok száma</a:t>
            </a:r>
            <a:r>
              <a:rPr b="0" lang="hu-HU" sz="2800" spc="-1" strike="noStrike">
                <a:solidFill>
                  <a:srgbClr val="031f43"/>
                </a:solidFill>
                <a:latin typeface="Book Antiqua"/>
              </a:rPr>
              <a:t>:</a:t>
            </a:r>
            <a:r>
              <a:rPr b="0" lang="hu-HU" sz="2800" spc="-1" strike="noStrike">
                <a:solidFill>
                  <a:srgbClr val="002060"/>
                </a:solidFill>
                <a:latin typeface="Book Antiqua"/>
              </a:rPr>
              <a:t> </a:t>
            </a:r>
            <a:r>
              <a:rPr b="1" lang="hu-HU" sz="2800" spc="-1" strike="noStrike">
                <a:solidFill>
                  <a:srgbClr val="002060"/>
                </a:solidFill>
                <a:latin typeface="Book Antiqua"/>
              </a:rPr>
              <a:t>438</a:t>
            </a:r>
            <a:r>
              <a:rPr b="0" lang="hu-HU" sz="2800" spc="-1" strike="noStrike">
                <a:solidFill>
                  <a:srgbClr val="052e65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5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hu-HU" sz="2800" spc="-1" strike="noStrike">
                <a:solidFill>
                  <a:srgbClr val="052e65"/>
                </a:solidFill>
                <a:latin typeface="Book Antiqua"/>
              </a:rPr>
              <a:t>Üdülő ingatlanok száma:</a:t>
            </a:r>
            <a:r>
              <a:rPr b="0" lang="hu-HU" sz="2800" spc="-1" strike="noStrike">
                <a:solidFill>
                  <a:srgbClr val="002060"/>
                </a:solidFill>
                <a:latin typeface="Book Antiqua"/>
              </a:rPr>
              <a:t> </a:t>
            </a:r>
            <a:r>
              <a:rPr b="1" lang="hu-HU" sz="2800" spc="-1" strike="noStrike">
                <a:solidFill>
                  <a:srgbClr val="002060"/>
                </a:solidFill>
                <a:latin typeface="Book Antiqua"/>
              </a:rPr>
              <a:t>229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07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Folyamatban lévő fejlesztések Balatonmáriafürdőn 2018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761" name="Kép 4" descr=""/>
          <p:cNvPicPr/>
          <p:nvPr/>
        </p:nvPicPr>
        <p:blipFill>
          <a:blip r:embed="rId1"/>
          <a:stretch/>
        </p:blipFill>
        <p:spPr>
          <a:xfrm>
            <a:off x="9325080" y="4059360"/>
            <a:ext cx="2890800" cy="3024000"/>
          </a:xfrm>
          <a:prstGeom prst="rect">
            <a:avLst/>
          </a:prstGeom>
          <a:ln w="0">
            <a:noFill/>
          </a:ln>
        </p:spPr>
      </p:pic>
      <p:sp>
        <p:nvSpPr>
          <p:cNvPr id="762" name="Rectangle 7"/>
          <p:cNvSpPr/>
          <p:nvPr/>
        </p:nvSpPr>
        <p:spPr>
          <a:xfrm>
            <a:off x="468360" y="2763720"/>
            <a:ext cx="1134108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5500" spc="-1" strike="noStrike">
                <a:solidFill>
                  <a:srgbClr val="1b4171"/>
                </a:solidFill>
                <a:latin typeface="Book Antiqua"/>
              </a:rPr>
              <a:t>Vasúti pálya felújítás</a:t>
            </a:r>
            <a:endParaRPr b="0" lang="en-US" sz="5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3" name="Picture 6" descr="Képtalálat a következőre: „vasúti pálya felújítás balatonmáriafürdő”"/>
          <p:cNvPicPr/>
          <p:nvPr/>
        </p:nvPicPr>
        <p:blipFill>
          <a:blip r:embed="rId2"/>
          <a:srcRect l="6181" t="15013" r="5740" b="14037"/>
          <a:stretch/>
        </p:blipFill>
        <p:spPr>
          <a:xfrm>
            <a:off x="992160" y="3951360"/>
            <a:ext cx="4386240" cy="265104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8" descr="Képtalálat a következőre: „vasút felújítás balatonmáriafürdő”"/>
          <p:cNvPicPr/>
          <p:nvPr/>
        </p:nvPicPr>
        <p:blipFill>
          <a:blip r:embed="rId3"/>
          <a:srcRect l="0" t="6187" r="0" b="0"/>
          <a:stretch/>
        </p:blipFill>
        <p:spPr>
          <a:xfrm>
            <a:off x="5796000" y="3952800"/>
            <a:ext cx="3835440" cy="2697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Kép 4" descr=""/>
          <p:cNvPicPr/>
          <p:nvPr/>
        </p:nvPicPr>
        <p:blipFill>
          <a:blip r:embed="rId1"/>
          <a:stretch/>
        </p:blipFill>
        <p:spPr>
          <a:xfrm>
            <a:off x="9325080" y="4059360"/>
            <a:ext cx="2890800" cy="3024000"/>
          </a:xfrm>
          <a:prstGeom prst="rect">
            <a:avLst/>
          </a:prstGeom>
          <a:ln w="0">
            <a:noFill/>
          </a:ln>
        </p:spPr>
      </p:pic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Balatonmáriafürdő Önkormányzatának vagyona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7" name="Téglalap 4"/>
          <p:cNvSpPr/>
          <p:nvPr/>
        </p:nvSpPr>
        <p:spPr>
          <a:xfrm>
            <a:off x="1717560" y="1305000"/>
            <a:ext cx="892836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2060"/>
                </a:solidFill>
                <a:latin typeface="Book Antiqua"/>
              </a:rPr>
              <a:t>Az Önkormányzat vagyona a  2017. évi zárómérleg alapján   </a:t>
            </a:r>
            <a:r>
              <a:rPr b="1" lang="hu-HU" sz="1900" spc="-1" strike="noStrike" u="sng">
                <a:solidFill>
                  <a:srgbClr val="ffff00"/>
                </a:solidFill>
                <a:uFillTx/>
                <a:latin typeface="Book Antiqua"/>
              </a:rPr>
              <a:t>4 899 </a:t>
            </a:r>
            <a:r>
              <a:rPr b="1" lang="hu-HU" sz="1900" spc="-1" strike="noStrike">
                <a:solidFill>
                  <a:srgbClr val="ffff00"/>
                </a:solidFill>
                <a:latin typeface="Book Antiqua"/>
              </a:rPr>
              <a:t>millió </a:t>
            </a:r>
            <a:r>
              <a:rPr b="1" lang="hu-HU" sz="1900" spc="-1" strike="noStrike">
                <a:solidFill>
                  <a:srgbClr val="002060"/>
                </a:solidFill>
                <a:latin typeface="Book Antiqua"/>
              </a:rPr>
              <a:t>forint.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68" name="Objektum 3"/>
          <p:cNvGraphicFramePr/>
          <p:nvPr/>
        </p:nvGraphicFramePr>
        <p:xfrm>
          <a:off x="685800" y="2700360"/>
          <a:ext cx="11430000" cy="3014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69" name="Objektum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700360"/>
                    <a:ext cx="11430000" cy="30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Kép 4" descr=""/>
          <p:cNvPicPr/>
          <p:nvPr/>
        </p:nvPicPr>
        <p:blipFill>
          <a:blip r:embed="rId1"/>
          <a:stretch/>
        </p:blipFill>
        <p:spPr>
          <a:xfrm>
            <a:off x="9325080" y="4059360"/>
            <a:ext cx="2890800" cy="3024000"/>
          </a:xfrm>
          <a:prstGeom prst="rect">
            <a:avLst/>
          </a:prstGeom>
          <a:ln w="0">
            <a:noFill/>
          </a:ln>
        </p:spPr>
      </p:pic>
      <p:pic>
        <p:nvPicPr>
          <p:cNvPr id="771" name="Diagram 5" descr=""/>
          <p:cNvPicPr/>
          <p:nvPr/>
        </p:nvPicPr>
        <p:blipFill>
          <a:blip r:embed="rId2"/>
          <a:stretch/>
        </p:blipFill>
        <p:spPr>
          <a:xfrm>
            <a:off x="396720" y="2425680"/>
            <a:ext cx="10655280" cy="4444920"/>
          </a:xfrm>
          <a:prstGeom prst="rect">
            <a:avLst/>
          </a:prstGeom>
          <a:ln w="0">
            <a:noFill/>
          </a:ln>
        </p:spPr>
      </p:pic>
      <p:sp>
        <p:nvSpPr>
          <p:cNvPr id="772" name="Rectangle 2"/>
          <p:cNvSpPr/>
          <p:nvPr/>
        </p:nvSpPr>
        <p:spPr>
          <a:xfrm>
            <a:off x="782640" y="509760"/>
            <a:ext cx="113410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3600" spc="-1" strike="noStrike">
                <a:solidFill>
                  <a:srgbClr val="ffff66"/>
                </a:solidFill>
                <a:latin typeface="Book Antiqua"/>
              </a:rPr>
              <a:t>Helyi adóbevételek 2008-2017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3" name="Diagram 1"/>
          <p:cNvGraphicFramePr/>
          <p:nvPr/>
        </p:nvGraphicFramePr>
        <p:xfrm>
          <a:off x="328680" y="2600280"/>
          <a:ext cx="7172280" cy="447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4" name="Diagram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80" y="2600280"/>
                    <a:ext cx="7172280" cy="44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3600" spc="-1" strike="noStrike">
                <a:solidFill>
                  <a:srgbClr val="ffff66"/>
                </a:solidFill>
                <a:latin typeface="Book Antiqua"/>
              </a:rPr>
              <a:t>Vendégéjszakák megoszlása 2017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776" name="Kép 3" descr=""/>
          <p:cNvPicPr/>
          <p:nvPr/>
        </p:nvPicPr>
        <p:blipFill>
          <a:blip r:embed="rId3"/>
          <a:stretch/>
        </p:blipFill>
        <p:spPr>
          <a:xfrm>
            <a:off x="9325080" y="4059360"/>
            <a:ext cx="2890800" cy="302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Kép 4" descr=""/>
          <p:cNvPicPr/>
          <p:nvPr/>
        </p:nvPicPr>
        <p:blipFill>
          <a:blip r:embed="rId1"/>
          <a:stretch/>
        </p:blipFill>
        <p:spPr>
          <a:xfrm>
            <a:off x="9325080" y="4059360"/>
            <a:ext cx="2890800" cy="30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8" name="Objektum 1"/>
          <p:cNvGraphicFramePr/>
          <p:nvPr/>
        </p:nvGraphicFramePr>
        <p:xfrm>
          <a:off x="476280" y="1676520"/>
          <a:ext cx="10648800" cy="5467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79" name="Objektum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6280" y="1676520"/>
                    <a:ext cx="1064880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3600" spc="-1" strike="noStrike">
                <a:solidFill>
                  <a:srgbClr val="ffff66"/>
                </a:solidFill>
                <a:latin typeface="Book Antiqua"/>
              </a:rPr>
              <a:t>Idegenforgalmi adóbevételek 2008-2017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Kép 4" descr=""/>
          <p:cNvPicPr/>
          <p:nvPr/>
        </p:nvPicPr>
        <p:blipFill>
          <a:blip r:embed="rId1"/>
          <a:stretch/>
        </p:blipFill>
        <p:spPr>
          <a:xfrm>
            <a:off x="9325080" y="4059360"/>
            <a:ext cx="2890800" cy="3024000"/>
          </a:xfrm>
          <a:prstGeom prst="rect">
            <a:avLst/>
          </a:prstGeom>
          <a:ln w="0">
            <a:noFill/>
          </a:ln>
        </p:spPr>
      </p:pic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3600" spc="-1" strike="noStrike">
                <a:solidFill>
                  <a:srgbClr val="ffff66"/>
                </a:solidFill>
                <a:latin typeface="Book Antiqua"/>
              </a:rPr>
              <a:t>Iparűzési adóbevételek 2008 - 2017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3" name="Rectangle 5"/>
          <p:cNvSpPr/>
          <p:nvPr/>
        </p:nvSpPr>
        <p:spPr>
          <a:xfrm>
            <a:off x="1116000" y="2612880"/>
            <a:ext cx="1072980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84" name=""/>
          <p:cNvGraphicFramePr/>
          <p:nvPr/>
        </p:nvGraphicFramePr>
        <p:xfrm>
          <a:off x="828720" y="2257560"/>
          <a:ext cx="4176720" cy="4502160"/>
        </p:xfrm>
        <a:graphic>
          <a:graphicData uri="http://schemas.openxmlformats.org/drawingml/2006/table">
            <a:tbl>
              <a:tblPr/>
              <a:tblGrid>
                <a:gridCol w="1193760"/>
                <a:gridCol w="2982960"/>
              </a:tblGrid>
              <a:tr h="741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Év</a:t>
                      </a: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Befizetett iparűzési adó össze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200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 3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2009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8 0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2010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 6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75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201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 6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201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 5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201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4 5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201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7 6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201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7 4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201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8 7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81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201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9 3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</a:tr>
            </a:tbl>
          </a:graphicData>
        </a:graphic>
      </p:graphicFrame>
      <p:sp>
        <p:nvSpPr>
          <p:cNvPr id="785" name="Téglalap 4"/>
          <p:cNvSpPr/>
          <p:nvPr/>
        </p:nvSpPr>
        <p:spPr>
          <a:xfrm>
            <a:off x="8471160" y="1755720"/>
            <a:ext cx="1739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6436b"/>
                </a:solidFill>
                <a:latin typeface="Book Antiqua"/>
                <a:ea typeface="Times New Roman"/>
              </a:rPr>
              <a:t>Adatok: e Ft-b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Szaggatott nyíl jobbra 5"/>
          <p:cNvSpPr/>
          <p:nvPr/>
        </p:nvSpPr>
        <p:spPr>
          <a:xfrm>
            <a:off x="5364000" y="3693960"/>
            <a:ext cx="1657440" cy="1513080"/>
          </a:xfrm>
          <a:custGeom>
            <a:avLst/>
            <a:gdLst/>
            <a:ahLst/>
            <a:rect l="l" t="t" r="r" b="b"/>
            <a:pathLst>
              <a:path w="1657350" h="1512887">
                <a:moveTo>
                  <a:pt x="0" y="378222"/>
                </a:moveTo>
                <a:lnTo>
                  <a:pt x="47278" y="378222"/>
                </a:lnTo>
                <a:lnTo>
                  <a:pt x="47278" y="1134665"/>
                </a:lnTo>
                <a:lnTo>
                  <a:pt x="0" y="1134665"/>
                </a:lnTo>
                <a:lnTo>
                  <a:pt x="0" y="378222"/>
                </a:lnTo>
                <a:close/>
                <a:moveTo>
                  <a:pt x="94555" y="378222"/>
                </a:moveTo>
                <a:lnTo>
                  <a:pt x="189111" y="378222"/>
                </a:lnTo>
                <a:lnTo>
                  <a:pt x="189111" y="1134665"/>
                </a:lnTo>
                <a:lnTo>
                  <a:pt x="94555" y="1134665"/>
                </a:lnTo>
                <a:lnTo>
                  <a:pt x="94555" y="378222"/>
                </a:lnTo>
                <a:close/>
                <a:moveTo>
                  <a:pt x="236389" y="378222"/>
                </a:moveTo>
                <a:lnTo>
                  <a:pt x="900907" y="378222"/>
                </a:lnTo>
                <a:lnTo>
                  <a:pt x="900907" y="0"/>
                </a:lnTo>
                <a:lnTo>
                  <a:pt x="1657350" y="756444"/>
                </a:lnTo>
                <a:lnTo>
                  <a:pt x="900907" y="1512887"/>
                </a:lnTo>
                <a:lnTo>
                  <a:pt x="900907" y="1134665"/>
                </a:lnTo>
                <a:lnTo>
                  <a:pt x="236389" y="1134665"/>
                </a:lnTo>
                <a:lnTo>
                  <a:pt x="236389" y="378222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Szövegdoboz 7"/>
          <p:cNvSpPr/>
          <p:nvPr/>
        </p:nvSpPr>
        <p:spPr>
          <a:xfrm>
            <a:off x="6635880" y="2897280"/>
            <a:ext cx="558000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Book Antiqua"/>
                <a:ea typeface="Tahoma"/>
              </a:rPr>
              <a:t>2017.Évb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Book Antiqua"/>
                <a:ea typeface="Tahoma"/>
              </a:rPr>
              <a:t>195 adó ala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Book Antiqua"/>
                <a:ea typeface="Tahoma"/>
              </a:rPr>
              <a:t>19 304 e Ft adóbevét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Book Antiqua"/>
                <a:ea typeface="Tahoma"/>
              </a:rPr>
              <a:t>Ebbő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Book Antiqua"/>
                <a:ea typeface="Tahoma"/>
              </a:rPr>
              <a:t>Vendéglátó és Kereskedelmi szolgáltatással foglalkozók száma: </a:t>
            </a:r>
            <a:r>
              <a:rPr b="0" lang="hu-HU" sz="3200" spc="-1" strike="noStrike">
                <a:solidFill>
                  <a:srgbClr val="000000"/>
                </a:solidFill>
                <a:latin typeface="Book Antiqua"/>
                <a:ea typeface="Tahoma"/>
              </a:rPr>
              <a:t>36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Book Antiqua"/>
              </a:rPr>
              <a:t>5 900 e 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Lefelé nyíl 8"/>
          <p:cNvSpPr/>
          <p:nvPr/>
        </p:nvSpPr>
        <p:spPr>
          <a:xfrm>
            <a:off x="9161640" y="4564080"/>
            <a:ext cx="358560" cy="33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9" name="Kép 4" descr=""/>
          <p:cNvPicPr/>
          <p:nvPr/>
        </p:nvPicPr>
        <p:blipFill>
          <a:blip r:embed="rId1"/>
          <a:stretch/>
        </p:blipFill>
        <p:spPr>
          <a:xfrm>
            <a:off x="9325080" y="4059360"/>
            <a:ext cx="2890800" cy="302400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3600" spc="-1" strike="noStrike">
                <a:solidFill>
                  <a:srgbClr val="ffff66"/>
                </a:solidFill>
                <a:latin typeface="Book Antiqua"/>
              </a:rPr>
              <a:t>Idegenforgalmi adóbevételek 2008 - 2017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1" name="Rectangle 5"/>
          <p:cNvSpPr/>
          <p:nvPr/>
        </p:nvSpPr>
        <p:spPr>
          <a:xfrm>
            <a:off x="1116000" y="2612880"/>
            <a:ext cx="1072980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92" name=""/>
          <p:cNvGraphicFramePr/>
          <p:nvPr/>
        </p:nvGraphicFramePr>
        <p:xfrm>
          <a:off x="828720" y="2257560"/>
          <a:ext cx="5327640" cy="4330440"/>
        </p:xfrm>
        <a:graphic>
          <a:graphicData uri="http://schemas.openxmlformats.org/drawingml/2006/table">
            <a:tbl>
              <a:tblPr/>
              <a:tblGrid>
                <a:gridCol w="936720"/>
                <a:gridCol w="1295280"/>
                <a:gridCol w="1440000"/>
                <a:gridCol w="1655640"/>
              </a:tblGrid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Év</a:t>
                      </a: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a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Jog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Összes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200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7 401 3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 276 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10 677 4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2009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8 067 1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 211 3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12 278 4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619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2010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0 117 1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 418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15 535 1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201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7 879 6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6 369 5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14 249 2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201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8 692 5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6 627 8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15 320 3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619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201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0 172 7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6 509 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15 320 3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619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201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1 560 9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 616 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16 177 2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619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201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0 896 9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 083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15 979 9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619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201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0 556 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7 218 3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17 774 6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619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201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6 94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 601 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000" spc="-1" strike="noStrike">
                          <a:solidFill>
                            <a:srgbClr val="1b4171"/>
                          </a:solidFill>
                          <a:latin typeface="Book Antiqua"/>
                        </a:rPr>
                        <a:t>11 342 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3ff"/>
                    </a:solidFill>
                  </a:tcPr>
                </a:tc>
              </a:tr>
            </a:tbl>
          </a:graphicData>
        </a:graphic>
      </p:graphicFrame>
      <p:sp>
        <p:nvSpPr>
          <p:cNvPr id="793" name="Szaggatott nyíl jobbra 5"/>
          <p:cNvSpPr/>
          <p:nvPr/>
        </p:nvSpPr>
        <p:spPr>
          <a:xfrm>
            <a:off x="6365880" y="3654360"/>
            <a:ext cx="1160280" cy="1513080"/>
          </a:xfrm>
          <a:custGeom>
            <a:avLst/>
            <a:gdLst/>
            <a:ahLst/>
            <a:rect l="l" t="t" r="r" b="b"/>
            <a:pathLst>
              <a:path w="1160463" h="1512888">
                <a:moveTo>
                  <a:pt x="0" y="378222"/>
                </a:moveTo>
                <a:lnTo>
                  <a:pt x="36264" y="378222"/>
                </a:lnTo>
                <a:lnTo>
                  <a:pt x="36264" y="1134666"/>
                </a:lnTo>
                <a:lnTo>
                  <a:pt x="0" y="1134666"/>
                </a:lnTo>
                <a:lnTo>
                  <a:pt x="0" y="378222"/>
                </a:lnTo>
                <a:close/>
                <a:moveTo>
                  <a:pt x="72529" y="378222"/>
                </a:moveTo>
                <a:lnTo>
                  <a:pt x="145058" y="378222"/>
                </a:lnTo>
                <a:lnTo>
                  <a:pt x="145058" y="1134666"/>
                </a:lnTo>
                <a:lnTo>
                  <a:pt x="72529" y="1134666"/>
                </a:lnTo>
                <a:lnTo>
                  <a:pt x="72529" y="378222"/>
                </a:lnTo>
                <a:close/>
                <a:moveTo>
                  <a:pt x="181322" y="378222"/>
                </a:moveTo>
                <a:lnTo>
                  <a:pt x="580232" y="378222"/>
                </a:lnTo>
                <a:lnTo>
                  <a:pt x="580232" y="0"/>
                </a:lnTo>
                <a:lnTo>
                  <a:pt x="1160463" y="756444"/>
                </a:lnTo>
                <a:lnTo>
                  <a:pt x="580232" y="1512888"/>
                </a:lnTo>
                <a:lnTo>
                  <a:pt x="580232" y="1134666"/>
                </a:lnTo>
                <a:lnTo>
                  <a:pt x="181322" y="1134666"/>
                </a:lnTo>
                <a:lnTo>
                  <a:pt x="181322" y="378222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4" name="Szövegdoboz 7"/>
          <p:cNvSpPr/>
          <p:nvPr/>
        </p:nvSpPr>
        <p:spPr>
          <a:xfrm>
            <a:off x="7380360" y="2908440"/>
            <a:ext cx="483552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Book Antiqua"/>
                <a:ea typeface="Tahoma"/>
              </a:rPr>
              <a:t>2017.Évb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Book Antiqua"/>
                <a:ea typeface="Tahoma"/>
              </a:rPr>
              <a:t>Jogi személyiségű adóalany: 25 d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Book Antiqua"/>
                <a:ea typeface="Tahoma"/>
              </a:rPr>
              <a:t>Magánszemély adóalany: 451 d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Book Antiqua"/>
              </a:rPr>
              <a:t>A 9 DB JOGI SZEMÉLY FIZET </a:t>
            </a:r>
            <a:r>
              <a:rPr b="1" i="1" lang="hu-HU" sz="2000" spc="-1" strike="noStrike" u="sng">
                <a:solidFill>
                  <a:srgbClr val="000000"/>
                </a:solidFill>
                <a:uFillTx/>
                <a:latin typeface="Book Antiqua"/>
              </a:rPr>
              <a:t>IDEGENFORGALMI ÉS IPARŰZÉSI </a:t>
            </a:r>
            <a:r>
              <a:rPr b="1" i="1" lang="hu-HU" sz="2000" spc="-1" strike="noStrike">
                <a:solidFill>
                  <a:srgbClr val="000000"/>
                </a:solidFill>
                <a:latin typeface="Book Antiqua"/>
              </a:rPr>
              <a:t>ADÓT 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68000" y="1971720"/>
            <a:ext cx="11341080" cy="31687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5500" spc="-1" strike="noStrike">
                <a:solidFill>
                  <a:srgbClr val="1b4171"/>
                </a:solidFill>
                <a:latin typeface="Book Antiqua"/>
              </a:rPr>
              <a:t>KÖSZÖNÖM A FIGYELMET!</a:t>
            </a:r>
            <a:endParaRPr b="0" lang="en-US" sz="55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796" name="Kép 2" descr=""/>
          <p:cNvPicPr/>
          <p:nvPr/>
        </p:nvPicPr>
        <p:blipFill>
          <a:blip r:embed="rId1"/>
          <a:stretch/>
        </p:blipFill>
        <p:spPr>
          <a:xfrm>
            <a:off x="9325080" y="4059360"/>
            <a:ext cx="2890800" cy="302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Kép 26" descr=""/>
          <p:cNvPicPr/>
          <p:nvPr/>
        </p:nvPicPr>
        <p:blipFill>
          <a:blip r:embed="rId1"/>
          <a:stretch/>
        </p:blipFill>
        <p:spPr>
          <a:xfrm>
            <a:off x="9325080" y="4059360"/>
            <a:ext cx="2890800" cy="302400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Book Antiqua"/>
              </a:rPr>
              <a:t>Balatonmáriafürdői Önkormányzat  szervezetei felépítése </a:t>
            </a:r>
            <a:br>
              <a:rPr sz="3200"/>
            </a:br>
            <a:r>
              <a:rPr b="1" lang="hu-HU" sz="3200" spc="-1" strike="noStrike">
                <a:solidFill>
                  <a:srgbClr val="ffff00"/>
                </a:solidFill>
                <a:latin typeface="Book Antiqua"/>
              </a:rPr>
              <a:t>2013. január 1-től</a:t>
            </a:r>
            <a:r>
              <a:rPr b="1" lang="hu-HU" sz="32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4" name="Rectangle 17"/>
          <p:cNvSpPr/>
          <p:nvPr/>
        </p:nvSpPr>
        <p:spPr>
          <a:xfrm>
            <a:off x="4500720" y="2114640"/>
            <a:ext cx="2977920" cy="455400"/>
          </a:xfrm>
          <a:prstGeom prst="rect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0920" rIns="7092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hu-HU" sz="1600" spc="-1" strike="noStrike">
                <a:solidFill>
                  <a:srgbClr val="000000"/>
                </a:solidFill>
                <a:latin typeface="Book Antiqua"/>
              </a:rPr>
              <a:t>Képviselő-testüle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Rectangle 18"/>
          <p:cNvSpPr/>
          <p:nvPr/>
        </p:nvSpPr>
        <p:spPr>
          <a:xfrm>
            <a:off x="4871880" y="3198960"/>
            <a:ext cx="2284560" cy="455400"/>
          </a:xfrm>
          <a:prstGeom prst="rect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0920" rIns="7092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Book Antiqua"/>
              </a:rPr>
              <a:t>Polgármest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Rectangle 19"/>
          <p:cNvSpPr/>
          <p:nvPr/>
        </p:nvSpPr>
        <p:spPr>
          <a:xfrm>
            <a:off x="7156440" y="6270480"/>
            <a:ext cx="3336840" cy="68436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0920" rIns="7092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Book Antiqua"/>
              </a:rPr>
              <a:t>Településüzemeltetési Iroda 9 fő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Rectangle 21"/>
          <p:cNvSpPr/>
          <p:nvPr/>
        </p:nvSpPr>
        <p:spPr>
          <a:xfrm>
            <a:off x="2585880" y="5111640"/>
            <a:ext cx="3078360" cy="68436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0920" rIns="7092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Book Antiqua"/>
              </a:rPr>
              <a:t>Védőnői szolgálat 1 fő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Line 30"/>
          <p:cNvSpPr/>
          <p:nvPr/>
        </p:nvSpPr>
        <p:spPr>
          <a:xfrm>
            <a:off x="5905440" y="256068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Text Box 51"/>
          <p:cNvSpPr/>
          <p:nvPr/>
        </p:nvSpPr>
        <p:spPr>
          <a:xfrm>
            <a:off x="1908000" y="5856120"/>
            <a:ext cx="1429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0920" rIns="7092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Téglalap 30"/>
          <p:cNvSpPr/>
          <p:nvPr/>
        </p:nvSpPr>
        <p:spPr>
          <a:xfrm>
            <a:off x="6586560" y="5127480"/>
            <a:ext cx="1944720" cy="668520"/>
          </a:xfrm>
          <a:prstGeom prst="rect">
            <a:avLst/>
          </a:prstGeom>
          <a:solidFill>
            <a:srgbClr val="32ae5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Book Antiqua"/>
              </a:rPr>
              <a:t>Közösségi ház 1 fő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Rectangle 21"/>
          <p:cNvSpPr/>
          <p:nvPr/>
        </p:nvSpPr>
        <p:spPr>
          <a:xfrm>
            <a:off x="657360" y="6127920"/>
            <a:ext cx="3078000" cy="684000"/>
          </a:xfrm>
          <a:prstGeom prst="rect">
            <a:avLst/>
          </a:prstGeom>
          <a:solidFill>
            <a:srgbClr val="32ae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0920" rIns="7092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Book Antiqua"/>
              </a:rPr>
              <a:t>Háziorvosi szolgálat 2 fő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Egyenes összekötő 30"/>
          <p:cNvSpPr/>
          <p:nvPr/>
        </p:nvSpPr>
        <p:spPr>
          <a:xfrm>
            <a:off x="1871640" y="4270320"/>
            <a:ext cx="882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Egyenes összekötő 32"/>
          <p:cNvSpPr/>
          <p:nvPr/>
        </p:nvSpPr>
        <p:spPr>
          <a:xfrm>
            <a:off x="10691640" y="4272120"/>
            <a:ext cx="1800" cy="7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Egyenes összekötő 34"/>
          <p:cNvSpPr/>
          <p:nvPr/>
        </p:nvSpPr>
        <p:spPr>
          <a:xfrm flipH="1">
            <a:off x="1870200" y="4272120"/>
            <a:ext cx="1440" cy="18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Egyenes összekötő 38"/>
          <p:cNvSpPr/>
          <p:nvPr/>
        </p:nvSpPr>
        <p:spPr>
          <a:xfrm flipH="1">
            <a:off x="3941280" y="4272120"/>
            <a:ext cx="1800" cy="9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Egyenes összekötő 64"/>
          <p:cNvSpPr/>
          <p:nvPr/>
        </p:nvSpPr>
        <p:spPr>
          <a:xfrm flipH="1">
            <a:off x="5870160" y="3654360"/>
            <a:ext cx="1800" cy="61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Egyenes összekötő 47"/>
          <p:cNvSpPr/>
          <p:nvPr/>
        </p:nvSpPr>
        <p:spPr>
          <a:xfrm flipV="1">
            <a:off x="3349800" y="3914280"/>
            <a:ext cx="2522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Egyenes összekötő 23"/>
          <p:cNvSpPr/>
          <p:nvPr/>
        </p:nvSpPr>
        <p:spPr>
          <a:xfrm flipH="1">
            <a:off x="7515360" y="4272120"/>
            <a:ext cx="1440" cy="86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Egyenes összekötő 21"/>
          <p:cNvSpPr/>
          <p:nvPr/>
        </p:nvSpPr>
        <p:spPr>
          <a:xfrm flipH="1">
            <a:off x="8801280" y="4272120"/>
            <a:ext cx="1440" cy="20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Lekerekített téglalap 26"/>
          <p:cNvSpPr/>
          <p:nvPr/>
        </p:nvSpPr>
        <p:spPr>
          <a:xfrm>
            <a:off x="299880" y="3164040"/>
            <a:ext cx="1320840" cy="752400"/>
          </a:xfrm>
          <a:prstGeom prst="roundRect">
            <a:avLst>
              <a:gd name="adj" fmla="val 16667"/>
            </a:avLst>
          </a:prstGeom>
          <a:solidFill>
            <a:srgbClr val="dc9f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Book Antiqua"/>
              </a:rPr>
              <a:t>B.keresztúr  Önkorm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Lekerekített téglalap 21"/>
          <p:cNvSpPr/>
          <p:nvPr/>
        </p:nvSpPr>
        <p:spPr>
          <a:xfrm>
            <a:off x="1874880" y="3164040"/>
            <a:ext cx="1185840" cy="7506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Book Antiqua"/>
              </a:rPr>
              <a:t>B.berény Önkor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Egyenes összekötő 39"/>
          <p:cNvSpPr/>
          <p:nvPr/>
        </p:nvSpPr>
        <p:spPr>
          <a:xfrm>
            <a:off x="960480" y="2430360"/>
            <a:ext cx="0" cy="73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Egyenes összekötő 41"/>
          <p:cNvSpPr/>
          <p:nvPr/>
        </p:nvSpPr>
        <p:spPr>
          <a:xfrm>
            <a:off x="2413080" y="2395440"/>
            <a:ext cx="0" cy="78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Ellipszis 26"/>
          <p:cNvSpPr/>
          <p:nvPr/>
        </p:nvSpPr>
        <p:spPr>
          <a:xfrm>
            <a:off x="9325080" y="4984920"/>
            <a:ext cx="2736720" cy="857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2060"/>
                </a:solidFill>
                <a:latin typeface="Book Antiqua"/>
              </a:rPr>
              <a:t>Önkormányzatok Társulása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Lekerekített téglalap 26"/>
          <p:cNvSpPr/>
          <p:nvPr/>
        </p:nvSpPr>
        <p:spPr>
          <a:xfrm>
            <a:off x="657360" y="1270080"/>
            <a:ext cx="3468600" cy="1143000"/>
          </a:xfrm>
          <a:prstGeom prst="roundRect">
            <a:avLst>
              <a:gd name="adj" fmla="val 16667"/>
            </a:avLst>
          </a:prstGeom>
          <a:solidFill>
            <a:srgbClr val="936a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Book Antiqua"/>
              </a:rPr>
              <a:t>Bk. Közös hivatal                  14 fő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Book Antiqua"/>
              </a:rPr>
              <a:t>B.berény kirendeltség           3 fő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Book Antiqua"/>
              </a:rPr>
              <a:t>B.máriafürdő kirendeltség  1 fő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Egyenes összekötő 33"/>
          <p:cNvSpPr/>
          <p:nvPr/>
        </p:nvSpPr>
        <p:spPr>
          <a:xfrm flipV="1">
            <a:off x="3347280" y="2438280"/>
            <a:ext cx="1800" cy="150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55640" y="2187720"/>
            <a:ext cx="10710720" cy="210024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2800" spc="-1" strike="noStrike">
                <a:solidFill>
                  <a:srgbClr val="052e65"/>
                </a:solidFill>
                <a:latin typeface="Book Antiqua"/>
              </a:rPr>
              <a:t>280 millió</a:t>
            </a:r>
            <a:r>
              <a:rPr b="0" lang="hu-HU" sz="2800" spc="-1" strike="noStrike">
                <a:solidFill>
                  <a:srgbClr val="052e65"/>
                </a:solidFill>
                <a:latin typeface="Book Antiqua"/>
              </a:rPr>
              <a:t> forintot fordítottunk működésre</a:t>
            </a:r>
            <a:br>
              <a:rPr sz="2800"/>
            </a:br>
            <a:r>
              <a:rPr b="1" lang="hu-HU" sz="2800" spc="-1" strike="noStrike">
                <a:solidFill>
                  <a:srgbClr val="052e65"/>
                </a:solidFill>
                <a:latin typeface="Book Antiqua"/>
              </a:rPr>
              <a:t>200 millió </a:t>
            </a:r>
            <a:r>
              <a:rPr b="0" lang="hu-HU" sz="2800" spc="-1" strike="noStrike">
                <a:solidFill>
                  <a:srgbClr val="052e65"/>
                </a:solidFill>
                <a:latin typeface="Book Antiqua"/>
              </a:rPr>
              <a:t>forintot fordítottunk felújításra,fejlesztésre</a:t>
            </a:r>
            <a:br>
              <a:rPr sz="2800"/>
            </a:br>
            <a:r>
              <a:rPr b="0" lang="hu-HU" sz="2800" spc="-1" strike="noStrike">
                <a:solidFill>
                  <a:srgbClr val="052e65"/>
                </a:solidFill>
                <a:latin typeface="Book Antiqua"/>
              </a:rPr>
              <a:t>- Dózsa Gy. utca, Hullám utca egyes részeinek felújítása</a:t>
            </a:r>
            <a:br>
              <a:rPr sz="2800"/>
            </a:br>
            <a:r>
              <a:rPr b="0" lang="hu-HU" sz="2800" spc="-1" strike="noStrike">
                <a:solidFill>
                  <a:srgbClr val="052e65"/>
                </a:solidFill>
                <a:latin typeface="Book Antiqua"/>
              </a:rPr>
              <a:t>- Központi stand fejlesztése</a:t>
            </a:r>
            <a:br>
              <a:rPr sz="2800"/>
            </a:br>
            <a:r>
              <a:rPr b="0" lang="hu-HU" sz="2800" spc="-1" strike="noStrike">
                <a:solidFill>
                  <a:srgbClr val="052e65"/>
                </a:solidFill>
                <a:latin typeface="Book Antiqua"/>
              </a:rPr>
              <a:t>- „Zagytéri” parti sétány építése</a:t>
            </a:r>
            <a:br>
              <a:rPr sz="25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12720" y="747360"/>
            <a:ext cx="11088720" cy="64764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b">
            <a:normAutofit fontScale="87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4000" spc="-1" strike="noStrike">
                <a:solidFill>
                  <a:srgbClr val="ffff00"/>
                </a:solidFill>
                <a:latin typeface="Book Antiqua"/>
              </a:rPr>
              <a:t>2017. évi működési költségek, fejlesztések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28720" y="2279160"/>
            <a:ext cx="10709280" cy="264348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6700" spc="-1" strike="noStrike">
                <a:solidFill>
                  <a:srgbClr val="ffff00"/>
                </a:solidFill>
                <a:latin typeface="Book Antiqua"/>
              </a:rPr>
              <a:t>2018.évi költségvetés</a:t>
            </a:r>
            <a:br>
              <a:rPr sz="6700"/>
            </a:br>
            <a:r>
              <a:rPr b="1" lang="hu-HU" sz="6700" spc="-1" strike="noStrike">
                <a:solidFill>
                  <a:srgbClr val="ffff00"/>
                </a:solidFill>
                <a:latin typeface="Book Antiqua"/>
              </a:rPr>
              <a:t>bevételei és kiadásai</a:t>
            </a:r>
            <a:endParaRPr b="0" lang="en-US" sz="67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710" name="Picture 6" descr="Balatonmariafurdo címer"/>
          <p:cNvPicPr/>
          <p:nvPr/>
        </p:nvPicPr>
        <p:blipFill>
          <a:blip r:embed="rId1"/>
          <a:stretch/>
        </p:blipFill>
        <p:spPr>
          <a:xfrm>
            <a:off x="1092240" y="603360"/>
            <a:ext cx="1868400" cy="1655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Balatonmáriafürdő Önkormányzatának </a:t>
            </a:r>
            <a:br>
              <a:rPr sz="3600"/>
            </a:b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2018.évi  tervezett bevételei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1692360" y="1971720"/>
          <a:ext cx="8785080" cy="5210280"/>
        </p:xfrm>
        <a:graphic>
          <a:graphicData uri="http://schemas.openxmlformats.org/drawingml/2006/table">
            <a:tbl>
              <a:tblPr/>
              <a:tblGrid>
                <a:gridCol w="7493040"/>
                <a:gridCol w="1292040"/>
              </a:tblGrid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aját bevétele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8 5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Építményad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1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elekad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8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degenforgalmi ad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5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parűzési ad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7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Helyi adó pótlék, bírsá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Gépjárműad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Önkorm.működési költségvetési támogatás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61 3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ámogatás értékű működési bevét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5 9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űködési célú pénz átvétel ÁHT-n kívülrő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űködési célú pénzmaradv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Következő évi állami támogatás megelőlegez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űk.kölcsön visszatérül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 3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űködési bevétel mindösszes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89 7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Balatonmáriafürdő Önkormányzának </a:t>
            </a:r>
            <a:br>
              <a:rPr sz="3600"/>
            </a:b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2018.évi  tervezett bevételei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1979640" y="1898640"/>
          <a:ext cx="9217080" cy="4753080"/>
        </p:xfrm>
        <a:graphic>
          <a:graphicData uri="http://schemas.openxmlformats.org/drawingml/2006/table">
            <a:tbl>
              <a:tblPr/>
              <a:tblGrid>
                <a:gridCol w="7589880"/>
                <a:gridCol w="1627200"/>
              </a:tblGrid>
              <a:tr h="3952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sztalék, részvény értékesít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árgyi eszköz értékesít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2 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Önkorm.felhalmozási költségvetési támogatás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ámogatás értékű felhalmozási bevét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0 2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elhalm.célú pénz átvétel ÁHT-n kívülrő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Hitel felvét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elhalmozási célú pénzmaradvá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09 8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Kincstárjegy visszatérül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elh.kölcsön visszatérül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elhalmozási bevétel mindössz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612 3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üggő, átfutó bevétele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BEVÉTEL MINDÖSSZES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902 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Balatonmáriafürdő Önkormányzatának </a:t>
            </a:r>
            <a:br>
              <a:rPr sz="3600"/>
            </a:b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2018.évi  tervezett kiadásai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1187280" y="2187720"/>
          <a:ext cx="8713800" cy="4392360"/>
        </p:xfrm>
        <a:graphic>
          <a:graphicData uri="http://schemas.openxmlformats.org/drawingml/2006/table">
            <a:tbl>
              <a:tblPr/>
              <a:tblGrid>
                <a:gridCol w="7175520"/>
                <a:gridCol w="1538280"/>
              </a:tblGrid>
              <a:tr h="439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zemélyi juttat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71 0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unkaadót terhelő járulé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4 4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ologi kiadáso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51 9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ámogatás értékű működési kiad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1 0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űk. célú pénz átadás ÁHT-n kívül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0 4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zoc. ellátások, segélye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 4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űködési célú tartalé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 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Kölcsön nyújt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lőző évi állami támogatás visszafizet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6 1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űködési kiadás mindösszes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93 6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30000" y="357120"/>
            <a:ext cx="11341080" cy="1325520"/>
          </a:xfrm>
          <a:prstGeom prst="rect">
            <a:avLst/>
          </a:prstGeom>
          <a:noFill/>
          <a:ln w="0">
            <a:noFill/>
          </a:ln>
        </p:spPr>
        <p:txBody>
          <a:bodyPr lIns="113400" rIns="113400" tIns="56880" bIns="56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Balatonmáriafürdő Önkormányzatának </a:t>
            </a:r>
            <a:br>
              <a:rPr sz="3600"/>
            </a:br>
            <a:r>
              <a:rPr b="1" lang="hu-HU" sz="3600" spc="-1" strike="noStrike">
                <a:solidFill>
                  <a:srgbClr val="ffff00"/>
                </a:solidFill>
                <a:latin typeface="Book Antiqua"/>
              </a:rPr>
              <a:t>2018.évi  tervezett kiadásai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718" name=""/>
          <p:cNvGraphicFramePr/>
          <p:nvPr/>
        </p:nvGraphicFramePr>
        <p:xfrm>
          <a:off x="1836720" y="2259000"/>
          <a:ext cx="8640720" cy="4465800"/>
        </p:xfrm>
        <a:graphic>
          <a:graphicData uri="http://schemas.openxmlformats.org/drawingml/2006/table">
            <a:tbl>
              <a:tblPr/>
              <a:tblGrid>
                <a:gridCol w="7115040"/>
                <a:gridCol w="1525680"/>
              </a:tblGrid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elújít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72 0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Beruház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00 5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ámogatás értékű felhalmozási kiad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elhalm. célú pénz átadás ÁHT-n kívül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Hitel felvét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énzügyi részesedése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elh.kölcsön nyújt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Kincstárjegy vásárl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elhalmozási célú tartalé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35 7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elhalmozási kiadás mindössz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608 4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üggő, átfutó kiadáso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KIADÁS MINDÖSSZES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902 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elepülésüzemeltetés</dc:creator>
  <dc:description/>
  <dc:language>en-US</dc:language>
  <cp:lastModifiedBy>Windows-felhasználó</cp:lastModifiedBy>
  <dcterms:modified xsi:type="dcterms:W3CDTF">2018-06-15T11:39:01Z</dcterms:modified>
  <cp:revision>882</cp:revision>
  <dc:subject/>
  <dc:title>PowerPoint Presentation</dc:title>
</cp:coreProperties>
</file>